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C4ECA-0402-4B9B-BB37-A7EB1E378F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CCE50-512D-41EC-8F79-EA607BE65E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2C73E-BFDF-4702-A650-91807B6083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844B9-3DE5-4374-A4E0-5A112B5AFF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3E64F-AF99-4919-A3DA-AA37BF2465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439F2-B75A-425B-BA1C-8F2E927CE7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6296E4-965C-4470-8303-D5465D9A48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0F01F-F6C9-46CE-B503-084388C16C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C06B4-C9EE-490E-A741-7EAD3B4614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50A84-3755-4FF8-A4D0-635716C278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30F4C-B2F3-429B-803B-6F6DBCDB01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04A76-8A48-46A5-82E7-38ECC171A4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FD825-D8AC-4F98-8E81-9D315D6F35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EF997-AADA-4A25-B58D-246168A5F1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BD608-3F13-409D-B965-83528BA326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D77DE-82A2-4DFA-925F-B4B0471BD2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331B5-BB3C-4B43-95B3-74DA106434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8CB13-DBAC-4210-B9A6-CDC335EE7C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F5C2E-2534-48CF-9D7B-894CD7B233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6FB2F8-58ED-4FC2-9F25-8DD3008A9C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7152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69480" y="4559040"/>
            <a:ext cx="5373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eory has only the alternative of being right or wr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del has a third possibility: it may be right but irrelev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fred Eigen (1927-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 simplicity and distrust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;fred North Whiteh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15C6D-66E7-453C-9375-036E3F8EED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544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EFB08-8607-45C2-B002-5B06EB5150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544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544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E4F0C-BFEA-436A-AB97-B20E167971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544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544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544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EAB35-D1BB-433A-8EEB-3F6FCFE3E2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37C30-648E-4347-A53F-6C63220613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AA83A-72D8-4061-AA2A-254F489A15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B0990-4526-435B-AE2A-E13F1CAF6E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518D8-C75E-446A-BA86-C393447BCF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4123D-5268-40B8-AD10-298A319F31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544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189F7-639A-42B0-AF43-693EF582A6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544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3D3D1-09AC-45A4-8BBD-578DEE1681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544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79D90-FBB9-4FC7-A324-1FF0BECFE5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5975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99760" y="6476760"/>
            <a:ext cx="533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gic Model Checking  [18 of 18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24440" y="64767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61A8-D206-48D8-91CD-AD396CE92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438960"/>
            <a:ext cx="7772400" cy="0"/>
          </a:xfrm>
          <a:prstGeom prst="line">
            <a:avLst/>
          </a:prstGeom>
          <a:ln w="28440">
            <a:solidFill>
              <a:srgbClr val="f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5975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gic Model Chec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231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cture Notes 18: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tech CS 1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nuary-March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urse Tex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pin Model Checker: Primer and Reference 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ison-Wesley 2003, ISBN 0-321-22862-6, 608 pg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5975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47640" y="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tus display: tracking progr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846000" y="3324240"/>
            <a:ext cx="3200400" cy="2692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978200" y="1138320"/>
            <a:ext cx="3895560" cy="196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6308640" y="1860480"/>
            <a:ext cx="1955880" cy="366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3B652-2B8A-406F-AA01-30E24234C2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5975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2025720" y="2506680"/>
            <a:ext cx="4731840" cy="2501640"/>
            <a:chOff x="2025720" y="2506680"/>
            <a:chExt cx="4731840" cy="2501640"/>
          </a:xfrm>
        </p:grpSpPr>
        <p:grpSp>
          <p:nvGrpSpPr>
            <p:cNvPr id="217" name=""/>
            <p:cNvGrpSpPr/>
            <p:nvPr/>
          </p:nvGrpSpPr>
          <p:grpSpPr>
            <a:xfrm>
              <a:off x="2025720" y="2506680"/>
              <a:ext cx="37440" cy="2501640"/>
              <a:chOff x="2025720" y="2506680"/>
              <a:chExt cx="37440" cy="2501640"/>
            </a:xfrm>
          </p:grpSpPr>
          <p:sp>
            <p:nvSpPr>
              <p:cNvPr id="218" name=""/>
              <p:cNvSpPr/>
              <p:nvPr/>
            </p:nvSpPr>
            <p:spPr>
              <a:xfrm>
                <a:off x="2025720" y="2506680"/>
                <a:ext cx="37440" cy="70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025720" y="2544120"/>
                <a:ext cx="37440" cy="2464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2027520" y="4979880"/>
              <a:ext cx="4730040" cy="25920"/>
              <a:chOff x="2027520" y="4979880"/>
              <a:chExt cx="4730040" cy="25920"/>
            </a:xfrm>
          </p:grpSpPr>
          <p:sp>
            <p:nvSpPr>
              <p:cNvPr id="221" name=""/>
              <p:cNvSpPr/>
              <p:nvPr/>
            </p:nvSpPr>
            <p:spPr>
              <a:xfrm rot="5400000">
                <a:off x="6677640" y="4925880"/>
                <a:ext cx="25920" cy="133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400000">
                <a:off x="4343760" y="2663280"/>
                <a:ext cx="25920" cy="4658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3" name=""/>
          <p:cNvSpPr/>
          <p:nvPr/>
        </p:nvSpPr>
        <p:spPr>
          <a:xfrm>
            <a:off x="219240" y="3165480"/>
            <a:ext cx="115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empus Sans ITC"/>
              </a:rPr>
              <a:t>percent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empus Sans ITC"/>
              </a:rPr>
              <a:t>vio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empus Sans ITC"/>
              </a:rPr>
              <a:t>repor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36120" y="5513400"/>
            <a:ext cx="180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empus Sans ITC"/>
              </a:rPr>
              <a:t>minutes si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empus Sans ITC"/>
              </a:rPr>
              <a:t>start of ch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38160" y="4473720"/>
            <a:ext cx="19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35080" y="4473720"/>
            <a:ext cx="450396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38160" y="3898800"/>
            <a:ext cx="19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35080" y="3898800"/>
            <a:ext cx="450396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38160" y="3324240"/>
            <a:ext cx="19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35080" y="3324240"/>
            <a:ext cx="450396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38160" y="2749680"/>
            <a:ext cx="19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35080" y="2749680"/>
            <a:ext cx="45039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550200" y="2751120"/>
            <a:ext cx="0" cy="2224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4276800" y="2739960"/>
            <a:ext cx="9360" cy="22687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5419800" y="2749320"/>
            <a:ext cx="9360" cy="22683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3134880" y="2768400"/>
            <a:ext cx="9720" cy="22683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39920" y="501660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81480" y="501660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33840" y="501660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84480" y="2771640"/>
            <a:ext cx="4335480" cy="1887840"/>
          </a:xfrm>
          <a:custGeom>
            <a:avLst/>
            <a:gdLst/>
            <a:ahLst/>
            <a:rect l="l" t="t" r="r" b="b"/>
            <a:pathLst>
              <a:path w="2731" h="1189">
                <a:moveTo>
                  <a:pt x="0" y="1189"/>
                </a:moveTo>
                <a:cubicBezTo>
                  <a:pt x="36" y="1157"/>
                  <a:pt x="172" y="1044"/>
                  <a:pt x="219" y="998"/>
                </a:cubicBezTo>
                <a:cubicBezTo>
                  <a:pt x="227" y="977"/>
                  <a:pt x="268" y="929"/>
                  <a:pt x="286" y="909"/>
                </a:cubicBezTo>
                <a:cubicBezTo>
                  <a:pt x="295" y="899"/>
                  <a:pt x="305" y="890"/>
                  <a:pt x="314" y="881"/>
                </a:cubicBezTo>
                <a:cubicBezTo>
                  <a:pt x="318" y="877"/>
                  <a:pt x="326" y="869"/>
                  <a:pt x="326" y="869"/>
                </a:cubicBezTo>
                <a:cubicBezTo>
                  <a:pt x="336" y="838"/>
                  <a:pt x="372" y="822"/>
                  <a:pt x="393" y="796"/>
                </a:cubicBezTo>
                <a:cubicBezTo>
                  <a:pt x="436" y="760"/>
                  <a:pt x="547" y="678"/>
                  <a:pt x="583" y="651"/>
                </a:cubicBezTo>
                <a:cubicBezTo>
                  <a:pt x="623" y="611"/>
                  <a:pt x="565" y="666"/>
                  <a:pt x="612" y="634"/>
                </a:cubicBezTo>
                <a:cubicBezTo>
                  <a:pt x="618" y="630"/>
                  <a:pt x="622" y="622"/>
                  <a:pt x="628" y="617"/>
                </a:cubicBezTo>
                <a:cubicBezTo>
                  <a:pt x="646" y="603"/>
                  <a:pt x="679" y="590"/>
                  <a:pt x="696" y="572"/>
                </a:cubicBezTo>
                <a:cubicBezTo>
                  <a:pt x="765" y="548"/>
                  <a:pt x="976" y="491"/>
                  <a:pt x="1043" y="471"/>
                </a:cubicBezTo>
                <a:cubicBezTo>
                  <a:pt x="1062" y="467"/>
                  <a:pt x="1099" y="454"/>
                  <a:pt x="1099" y="454"/>
                </a:cubicBezTo>
                <a:cubicBezTo>
                  <a:pt x="1118" y="436"/>
                  <a:pt x="1144" y="434"/>
                  <a:pt x="1167" y="421"/>
                </a:cubicBezTo>
                <a:cubicBezTo>
                  <a:pt x="1184" y="412"/>
                  <a:pt x="1196" y="397"/>
                  <a:pt x="1212" y="387"/>
                </a:cubicBezTo>
                <a:cubicBezTo>
                  <a:pt x="1237" y="372"/>
                  <a:pt x="1270" y="372"/>
                  <a:pt x="1296" y="359"/>
                </a:cubicBezTo>
                <a:cubicBezTo>
                  <a:pt x="1349" y="332"/>
                  <a:pt x="1365" y="326"/>
                  <a:pt x="1430" y="320"/>
                </a:cubicBezTo>
                <a:cubicBezTo>
                  <a:pt x="1469" y="306"/>
                  <a:pt x="1513" y="303"/>
                  <a:pt x="1554" y="292"/>
                </a:cubicBezTo>
                <a:cubicBezTo>
                  <a:pt x="1574" y="286"/>
                  <a:pt x="1591" y="277"/>
                  <a:pt x="1610" y="269"/>
                </a:cubicBezTo>
                <a:cubicBezTo>
                  <a:pt x="1652" y="251"/>
                  <a:pt x="1700" y="242"/>
                  <a:pt x="1744" y="230"/>
                </a:cubicBezTo>
                <a:cubicBezTo>
                  <a:pt x="1767" y="215"/>
                  <a:pt x="1790" y="213"/>
                  <a:pt x="1817" y="208"/>
                </a:cubicBezTo>
                <a:cubicBezTo>
                  <a:pt x="1843" y="189"/>
                  <a:pt x="1830" y="195"/>
                  <a:pt x="1873" y="191"/>
                </a:cubicBezTo>
                <a:cubicBezTo>
                  <a:pt x="1916" y="187"/>
                  <a:pt x="2002" y="180"/>
                  <a:pt x="2002" y="180"/>
                </a:cubicBezTo>
                <a:cubicBezTo>
                  <a:pt x="2030" y="173"/>
                  <a:pt x="2058" y="171"/>
                  <a:pt x="2086" y="163"/>
                </a:cubicBezTo>
                <a:cubicBezTo>
                  <a:pt x="2127" y="151"/>
                  <a:pt x="2115" y="147"/>
                  <a:pt x="2170" y="140"/>
                </a:cubicBezTo>
                <a:cubicBezTo>
                  <a:pt x="2256" y="115"/>
                  <a:pt x="2339" y="87"/>
                  <a:pt x="2428" y="73"/>
                </a:cubicBezTo>
                <a:cubicBezTo>
                  <a:pt x="2454" y="64"/>
                  <a:pt x="2480" y="57"/>
                  <a:pt x="2507" y="51"/>
                </a:cubicBezTo>
                <a:cubicBezTo>
                  <a:pt x="2536" y="30"/>
                  <a:pt x="2696" y="6"/>
                  <a:pt x="2731" y="0"/>
                </a:cubicBezTo>
              </a:path>
            </a:pathLst>
          </a:cu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53680" y="43005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53680" y="3726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53680" y="31510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61160" y="257796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01400" y="43196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01400" y="37450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01400" y="31701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5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01400" y="2597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56320" y="4483080"/>
            <a:ext cx="19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556320" y="3908520"/>
            <a:ext cx="19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56320" y="3333600"/>
            <a:ext cx="19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56320" y="2759040"/>
            <a:ext cx="19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440120" y="3132000"/>
            <a:ext cx="124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empus Sans ITC"/>
              </a:rPr>
              <a:t>(number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empus Sans ITC"/>
              </a:rPr>
              <a:t>vio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empus Sans ITC"/>
              </a:rPr>
              <a:t>repor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331640" y="1527840"/>
            <a:ext cx="1785600" cy="2929320"/>
            <a:chOff x="1331640" y="1527840"/>
            <a:chExt cx="1785600" cy="2929320"/>
          </a:xfrm>
        </p:grpSpPr>
        <p:sp>
          <p:nvSpPr>
            <p:cNvPr id="255" name=""/>
            <p:cNvSpPr/>
            <p:nvPr/>
          </p:nvSpPr>
          <p:spPr>
            <a:xfrm>
              <a:off x="2224800" y="2265840"/>
              <a:ext cx="177840" cy="21913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0800">
              <a:off x="1332360" y="1530360"/>
              <a:ext cx="1783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Tempus Sans ITC"/>
                </a:rPr>
                <a:t>15 error re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Tempus Sans ITC"/>
                </a:rPr>
                <a:t>in 3 min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100680" y="1697760"/>
            <a:ext cx="3543120" cy="1962720"/>
            <a:chOff x="3100680" y="1697760"/>
            <a:chExt cx="3543120" cy="1962720"/>
          </a:xfrm>
        </p:grpSpPr>
        <p:sp>
          <p:nvSpPr>
            <p:cNvPr id="258" name=""/>
            <p:cNvSpPr/>
            <p:nvPr/>
          </p:nvSpPr>
          <p:spPr>
            <a:xfrm flipH="1">
              <a:off x="3190680" y="2295720"/>
              <a:ext cx="587160" cy="136476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0800">
              <a:off x="3101400" y="1703160"/>
              <a:ext cx="3541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Tempus Sans ITC"/>
                </a:rPr>
                <a:t>over half of all reports gener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Tempus Sans ITC"/>
                </a:rPr>
                <a:t>within the first 10 min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934720" y="5132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44600" y="5132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87600" y="5132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330600" y="5132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56320" y="499896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9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rformanc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Sept. 1999)</a:t>
            </a:r>
            <a:br>
              <a:rPr sz="3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using 16  500 MHz PCs with 512 Mb ea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749160" y="4687920"/>
            <a:ext cx="1874160" cy="1272240"/>
            <a:chOff x="749160" y="4687920"/>
            <a:chExt cx="1874160" cy="1272240"/>
          </a:xfrm>
        </p:grpSpPr>
        <p:sp>
          <p:nvSpPr>
            <p:cNvPr id="267" name=""/>
            <p:cNvSpPr/>
            <p:nvPr/>
          </p:nvSpPr>
          <p:spPr>
            <a:xfrm rot="10800">
              <a:off x="749880" y="5376600"/>
              <a:ext cx="1872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Tempus Sans ITC"/>
                </a:rPr>
                <a:t>first error re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Tempus Sans ITC"/>
                </a:rPr>
                <a:t>in 2 min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1900080" y="4687920"/>
              <a:ext cx="279720" cy="587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412D8-715F-443F-87A4-886C62C73D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5975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514600" y="2514600"/>
            <a:ext cx="0" cy="1981080"/>
          </a:xfrm>
          <a:prstGeom prst="line">
            <a:avLst/>
          </a:prstGeom>
          <a:ln w="76320">
            <a:solidFill>
              <a:srgbClr val="afafa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variants of model check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lass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del che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05120" y="1523880"/>
            <a:ext cx="1218960" cy="914400"/>
          </a:xfrm>
          <a:prstGeom prst="rect">
            <a:avLst/>
          </a:prstGeom>
          <a:solidFill>
            <a:srgbClr val="00cc99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1523880"/>
            <a:ext cx="1219320" cy="9144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91120" y="1523880"/>
            <a:ext cx="914400" cy="9144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1981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05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4572000"/>
            <a:ext cx="1218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-bui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981080" y="2971800"/>
          <a:ext cx="102888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971800"/>
                    <a:ext cx="102888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3581280" y="2819520"/>
            <a:ext cx="5050080" cy="1372680"/>
          </a:xfrm>
          <a:prstGeom prst="rect">
            <a:avLst/>
          </a:prstGeom>
          <a:solidFill>
            <a:srgbClr val="5f5f5f">
              <a:alpha val="3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is the basic model checking meth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sed since the early 1980s-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in challeng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structing faithful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cking changes in original design/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81360" y="5634000"/>
            <a:ext cx="1252440" cy="33336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5118120" y="5283000"/>
            <a:ext cx="861840" cy="6120"/>
          </a:xfrm>
          <a:prstGeom prst="line">
            <a:avLst/>
          </a:prstGeom>
          <a:ln w="9360">
            <a:solidFill>
              <a:srgbClr val="ed181e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71760" y="4662360"/>
            <a:ext cx="102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181e"/>
                </a:solidFill>
                <a:latin typeface="Arial"/>
              </a:rPr>
              <a:t>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181e"/>
                </a:solidFill>
                <a:latin typeface="Arial"/>
              </a:rPr>
              <a:t>vio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133800" y="5502240"/>
            <a:ext cx="1119240" cy="30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91120" y="4794120"/>
            <a:ext cx="914400" cy="9144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Spi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4925880"/>
            <a:ext cx="1092240" cy="1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00841-EA30-417B-91D3-A08941EDFE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5975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variants of model checking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: model extraction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5120" y="1523880"/>
            <a:ext cx="1218960" cy="914400"/>
          </a:xfrm>
          <a:prstGeom prst="rect">
            <a:avLst/>
          </a:prstGeom>
          <a:solidFill>
            <a:srgbClr val="00cc99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72200" y="1523880"/>
            <a:ext cx="1219320" cy="9144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91120" y="1523880"/>
            <a:ext cx="914400" cy="9144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1981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105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05120" y="4572000"/>
            <a:ext cx="1218960" cy="649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ic model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bedded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2438280"/>
            <a:ext cx="0" cy="27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191120" y="4794120"/>
            <a:ext cx="914400" cy="9144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Spi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3645000"/>
            <a:ext cx="0" cy="9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24080" y="4925880"/>
            <a:ext cx="1092240" cy="1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881360" y="5634000"/>
            <a:ext cx="1252440" cy="33336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06040" y="2747880"/>
            <a:ext cx="4399200" cy="1585800"/>
          </a:xfrm>
          <a:prstGeom prst="rect">
            <a:avLst/>
          </a:prstGeom>
          <a:solidFill>
            <a:srgbClr val="5f5f5f">
              <a:alpha val="3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eaVer (PathStar application, 1998-200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AM (Microsoft, 200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ava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thfinder-1 (Ames, Havelund 199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ndera (KSU, Dwyer/Hatcliff 199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in challeng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tting up the model extraction con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133720" y="1676520"/>
            <a:ext cx="76176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118120" y="5219640"/>
            <a:ext cx="861840" cy="6480"/>
          </a:xfrm>
          <a:prstGeom prst="line">
            <a:avLst/>
          </a:prstGeom>
          <a:ln w="9360">
            <a:solidFill>
              <a:srgbClr val="ed181e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71760" y="4599000"/>
            <a:ext cx="102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181e"/>
                </a:solidFill>
                <a:latin typeface="Arial"/>
              </a:rPr>
              <a:t>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181e"/>
                </a:solidFill>
                <a:latin typeface="Arial"/>
              </a:rPr>
              <a:t>vio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05120" y="5297400"/>
            <a:ext cx="1228680" cy="24768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ed C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152880" y="5281560"/>
            <a:ext cx="1033200" cy="15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92240" y="4014720"/>
            <a:ext cx="1017720" cy="34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81080" y="274644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3133800" y="5502240"/>
            <a:ext cx="1119240" cy="30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02CC5-99FB-43CE-874C-69688E033C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5975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variants of model checking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: using a virtual machine (e.g., JV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905120" y="2514600"/>
            <a:ext cx="1218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72200" y="2514600"/>
            <a:ext cx="12193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91120" y="25146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29718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05520" y="2971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898280" y="4267080"/>
            <a:ext cx="3242520" cy="1585800"/>
          </a:xfrm>
          <a:prstGeom prst="rect">
            <a:avLst/>
          </a:prstGeom>
          <a:solidFill>
            <a:srgbClr val="5f5f5f">
              <a:alpha val="3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ava Pathfinder-2 (Ames, Visser et al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in challeng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lexity/trac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aling with abs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6019920" y="1905120"/>
            <a:ext cx="1981080" cy="2133360"/>
            <a:chOff x="6019920" y="1905120"/>
            <a:chExt cx="1981080" cy="2133360"/>
          </a:xfrm>
        </p:grpSpPr>
        <p:sp>
          <p:nvSpPr>
            <p:cNvPr id="315" name=""/>
            <p:cNvSpPr/>
            <p:nvPr/>
          </p:nvSpPr>
          <p:spPr>
            <a:xfrm>
              <a:off x="6019920" y="1905120"/>
              <a:ext cx="1904760" cy="5331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467480" y="1905120"/>
              <a:ext cx="533520" cy="2133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019920" y="3505320"/>
              <a:ext cx="1904760" cy="5331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pecial purpo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irtual mach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7058160" y="4057560"/>
            <a:ext cx="0" cy="685800"/>
          </a:xfrm>
          <a:prstGeom prst="line">
            <a:avLst/>
          </a:prstGeom>
          <a:ln w="936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117200" y="44751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181e"/>
                </a:solidFill>
                <a:latin typeface="Arial"/>
              </a:rPr>
              <a:t>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9B0EC-18EE-49D1-AB4F-D8F5A1BDC5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5975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nopsis of new approac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: model-driven verification of executabl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05120" y="1523880"/>
            <a:ext cx="1218960" cy="914400"/>
          </a:xfrm>
          <a:prstGeom prst="rect">
            <a:avLst/>
          </a:prstGeom>
          <a:solidFill>
            <a:srgbClr val="00cc99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72200" y="1523880"/>
            <a:ext cx="1219320" cy="914400"/>
          </a:xfrm>
          <a:prstGeom prst="rect">
            <a:avLst/>
          </a:prstGeom>
          <a:solidFill>
            <a:srgbClr val="00cc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91120" y="1523880"/>
            <a:ext cx="914400" cy="9144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24080" y="1981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05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72200" y="3552840"/>
            <a:ext cx="1219320" cy="600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determini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ace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781680" y="2867040"/>
            <a:ext cx="0" cy="66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24480" y="47242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p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6772320" y="4200480"/>
            <a:ext cx="9360" cy="514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2440" y="2943360"/>
            <a:ext cx="5686560" cy="1372680"/>
          </a:xfrm>
          <a:prstGeom prst="rect">
            <a:avLst/>
          </a:prstGeom>
          <a:solidFill>
            <a:srgbClr val="5f5f5f">
              <a:alpha val="3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Examples of this approach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rs Pathfinder verification (NASA/JPL 20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PL Mars Resource Arbiter verification (NASA/JPL 200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in challeng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curate state capture &amp; definition of abstr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075880" y="3276720"/>
            <a:ext cx="106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00760" y="5676840"/>
            <a:ext cx="0" cy="685800"/>
          </a:xfrm>
          <a:prstGeom prst="line">
            <a:avLst/>
          </a:prstGeom>
          <a:ln w="936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60160" y="609444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181e"/>
                </a:solidFill>
                <a:latin typeface="Arial"/>
              </a:rPr>
              <a:t>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7363080" y="2342160"/>
            <a:ext cx="68400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5400000">
            <a:off x="6653520" y="1643760"/>
            <a:ext cx="27468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5529960" y="2309040"/>
            <a:ext cx="703080" cy="390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067520" y="2009880"/>
            <a:ext cx="2952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1800" y="4551480"/>
            <a:ext cx="5694480" cy="1144440"/>
          </a:xfrm>
          <a:prstGeom prst="rect">
            <a:avLst/>
          </a:prstGeom>
          <a:solidFill>
            <a:srgbClr val="5f5f5f">
              <a:alpha val="4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fferences from source-level model extracti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er-level and coar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in functions in code are executed atomic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interleaving is at function-level not at statement-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104240" y="2209680"/>
            <a:ext cx="923760" cy="2743200"/>
          </a:xfrm>
          <a:custGeom>
            <a:avLst/>
            <a:gdLst/>
            <a:ahLst/>
            <a:rect l="l" t="t" r="r" b="b"/>
            <a:pathLst>
              <a:path w="504" h="1728">
                <a:moveTo>
                  <a:pt x="96" y="0"/>
                </a:moveTo>
                <a:cubicBezTo>
                  <a:pt x="236" y="84"/>
                  <a:pt x="376" y="168"/>
                  <a:pt x="432" y="384"/>
                </a:cubicBezTo>
                <a:cubicBezTo>
                  <a:pt x="488" y="600"/>
                  <a:pt x="504" y="1072"/>
                  <a:pt x="432" y="1296"/>
                </a:cubicBezTo>
                <a:cubicBezTo>
                  <a:pt x="360" y="1520"/>
                  <a:pt x="180" y="1624"/>
                  <a:pt x="0" y="17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648560" y="3913200"/>
            <a:ext cx="1033560" cy="469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82344-C976-4297-8257-B5895A7ADE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5975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18960"/>
            <a:ext cx="777240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 for embedded C code in Spin v4</a:t>
            </a:r>
            <a:br>
              <a:rPr sz="3200"/>
            </a:b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(implemented Sep. 2000, added to spin distribution Jan. 2003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6629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ve extra Promela primi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Courier New"/>
              </a:rPr>
              <a:t>c_dec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6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Courier New"/>
              </a:rPr>
              <a:t>c_st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6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ff00"/>
                </a:solidFill>
                <a:latin typeface="Courier New"/>
              </a:rPr>
              <a:t>c_track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36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ff00"/>
                </a:solidFill>
                <a:latin typeface="Courier New"/>
              </a:rPr>
              <a:t>c_exp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6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ff00"/>
                </a:solidFill>
                <a:latin typeface="Courier New"/>
              </a:rPr>
              <a:t>c_cod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1828800"/>
            <a:ext cx="441972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95" y="12400"/>
                </a:moveTo>
                <a:lnTo>
                  <a:pt x="-372" y="3600"/>
                </a:ln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define new C data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typ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hat can be used later in c_state or c_track primi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14800" y="2666880"/>
            <a:ext cx="4411800" cy="81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43" y="10905"/>
                </a:moveTo>
                <a:lnTo>
                  <a:pt x="-373" y="3020"/>
                </a:ln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declare new C variables inside state vector: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Globa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Loca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r outside state vector: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Hidd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meant to be used by model extractors on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3616200"/>
            <a:ext cx="441972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832" y="6300"/>
                </a:moveTo>
                <a:lnTo>
                  <a:pt x="-372" y="3600"/>
                </a:ln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o report C data objects, declared outside the model (in C code), as holding 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</a:rPr>
              <a:t>state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038480" y="4419720"/>
            <a:ext cx="441972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034" y="6750"/>
                </a:moveTo>
                <a:lnTo>
                  <a:pt x="-372" y="3600"/>
                </a:ln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locking: execute a C expression and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use the boolean return value in th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114800" y="5261040"/>
            <a:ext cx="4405320" cy="682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33" y="3617"/>
                </a:moveTo>
                <a:lnTo>
                  <a:pt x="-374" y="3617"/>
                </a:ln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non-blocking: execute a fragment of C code atomically and deterministically (like a d_ste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05120" y="2133720"/>
            <a:ext cx="457200" cy="1752480"/>
          </a:xfrm>
          <a:custGeom>
            <a:avLst/>
            <a:gdLst>
              <a:gd name="textAreaLeft" fmla="*/ 292320 w 457200"/>
              <a:gd name="textAreaRight" fmla="*/ 457560 w 4572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05120" y="4133880"/>
            <a:ext cx="457200" cy="1352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35280 h 1352520"/>
              <a:gd name="textAreaBottom" fmla="*/ 1317240 h 135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271296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4920" y="4465800"/>
            <a:ext cx="15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5AFB3-1BE7-497F-B437-AA47F20288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5975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553000" y="2257560"/>
            <a:ext cx="1808280" cy="2665440"/>
          </a:xfrm>
          <a:custGeom>
            <a:avLst/>
            <a:gdLst/>
            <a:ahLst/>
            <a:rect l="l" t="t" r="r" b="b"/>
            <a:pathLst>
              <a:path w="936" h="1328">
                <a:moveTo>
                  <a:pt x="366" y="0"/>
                </a:moveTo>
                <a:cubicBezTo>
                  <a:pt x="389" y="67"/>
                  <a:pt x="412" y="134"/>
                  <a:pt x="378" y="246"/>
                </a:cubicBezTo>
                <a:cubicBezTo>
                  <a:pt x="344" y="358"/>
                  <a:pt x="224" y="553"/>
                  <a:pt x="162" y="672"/>
                </a:cubicBezTo>
                <a:cubicBezTo>
                  <a:pt x="100" y="791"/>
                  <a:pt x="0" y="854"/>
                  <a:pt x="6" y="960"/>
                </a:cubicBezTo>
                <a:cubicBezTo>
                  <a:pt x="12" y="1066"/>
                  <a:pt x="158" y="1288"/>
                  <a:pt x="198" y="1308"/>
                </a:cubicBezTo>
                <a:cubicBezTo>
                  <a:pt x="238" y="1328"/>
                  <a:pt x="253" y="1145"/>
                  <a:pt x="246" y="1080"/>
                </a:cubicBezTo>
                <a:cubicBezTo>
                  <a:pt x="239" y="1015"/>
                  <a:pt x="126" y="1018"/>
                  <a:pt x="156" y="918"/>
                </a:cubicBezTo>
                <a:cubicBezTo>
                  <a:pt x="186" y="818"/>
                  <a:pt x="370" y="574"/>
                  <a:pt x="426" y="480"/>
                </a:cubicBezTo>
                <a:cubicBezTo>
                  <a:pt x="482" y="386"/>
                  <a:pt x="451" y="342"/>
                  <a:pt x="492" y="354"/>
                </a:cubicBezTo>
                <a:cubicBezTo>
                  <a:pt x="533" y="366"/>
                  <a:pt x="598" y="455"/>
                  <a:pt x="672" y="552"/>
                </a:cubicBezTo>
                <a:cubicBezTo>
                  <a:pt x="746" y="649"/>
                  <a:pt x="841" y="792"/>
                  <a:pt x="936" y="936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bedded C data objec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ood and the ba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47920" y="1319040"/>
            <a:ext cx="3690360" cy="252756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_code { float x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e proctype simpl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_code { x = 2.0; 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: c_code { x = x+2.0; }; assert(x&lt;5.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: c_code { x = x*3.0;  }; assert(x&lt;7.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7120" y="4071960"/>
            <a:ext cx="2681640" cy="14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spin -a simple.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cc -o pan pan.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p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n: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sertion violat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x &lt; 7.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n: wrote simple.pr.tr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 ..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(shows x equals 12.0...!?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6760" y="5504040"/>
            <a:ext cx="6697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embedded var x holds state information;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ailure to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track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t can confuse the model checker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. may erroneously consider a state match (due to missing information on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. can execute erroneous paths (due to inability to restore the value accurate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4562640" y="1295280"/>
            <a:ext cx="4343400" cy="4343400"/>
            <a:chOff x="4562640" y="1295280"/>
            <a:chExt cx="4343400" cy="4343400"/>
          </a:xfrm>
        </p:grpSpPr>
        <p:sp>
          <p:nvSpPr>
            <p:cNvPr id="358" name=""/>
            <p:cNvSpPr/>
            <p:nvPr/>
          </p:nvSpPr>
          <p:spPr>
            <a:xfrm>
              <a:off x="5706360" y="2596680"/>
              <a:ext cx="1243800" cy="520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x==2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8668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5676480" y="3048120"/>
              <a:ext cx="3812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591240" y="3048120"/>
              <a:ext cx="533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197320" y="1370520"/>
              <a:ext cx="221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epth-first search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88160" y="2253240"/>
              <a:ext cx="6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x=2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680720" y="3076920"/>
              <a:ext cx="81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x=x+2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341480" y="3153240"/>
              <a:ext cx="78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x=x*3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6362280" y="2438280"/>
              <a:ext cx="381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6896160" y="335268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5447880" y="3276720"/>
              <a:ext cx="381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772320" y="3719520"/>
              <a:ext cx="1951200" cy="520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assert(x&lt;7.0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00880" y="4267080"/>
              <a:ext cx="7617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514920" y="4267080"/>
              <a:ext cx="6858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134400" y="52254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st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29200" y="1904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562640" y="1295280"/>
              <a:ext cx="4343400" cy="434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638600" y="3719520"/>
              <a:ext cx="1951200" cy="520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assert(x&lt;5.0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2C81E-965C-4763-A9BE-3CFC12E6B1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5975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king external data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3000" y="1319040"/>
            <a:ext cx="3690360" cy="277092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_code { float x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_track  “&amp;x”  “sizeof(float)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e proctype simpl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_code { x = 2.0; 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: c_code { x = x+2.0; }; assert(x&lt;5.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: c_code { x = x*3.0;  }; assert(x&lt;7.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33640" y="4303440"/>
            <a:ext cx="164088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spin -a simple.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cc -o pan pan.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p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...no errors.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4280" y="5442120"/>
            <a:ext cx="5106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 is now correctly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tracked and store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. all state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matchin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perations are now accu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. the value of x is now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restored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n reverse moves in the 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roneous path are now impos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06360" y="2596680"/>
            <a:ext cx="124380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==2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86680" y="228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5676480" y="304812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591240" y="30481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197320" y="1370520"/>
            <a:ext cx="22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th-first sear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788160" y="2253240"/>
            <a:ext cx="62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x=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80720" y="307692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x=x+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341480" y="31532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x=x*3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6362280" y="24382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896160" y="3352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5447880" y="32767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772320" y="3719520"/>
            <a:ext cx="195120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ssert(x&lt;7.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00880" y="4267080"/>
            <a:ext cx="761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514920" y="4267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134400" y="5225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29200" y="1904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562640" y="1295280"/>
            <a:ext cx="434340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638600" y="3719520"/>
            <a:ext cx="195120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ssert(x&lt;5.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53000" y="2257560"/>
            <a:ext cx="1808280" cy="2665440"/>
          </a:xfrm>
          <a:custGeom>
            <a:avLst/>
            <a:gdLst/>
            <a:ahLst/>
            <a:rect l="l" t="t" r="r" b="b"/>
            <a:pathLst>
              <a:path w="936" h="1328">
                <a:moveTo>
                  <a:pt x="366" y="0"/>
                </a:moveTo>
                <a:cubicBezTo>
                  <a:pt x="389" y="67"/>
                  <a:pt x="412" y="134"/>
                  <a:pt x="378" y="246"/>
                </a:cubicBezTo>
                <a:cubicBezTo>
                  <a:pt x="344" y="358"/>
                  <a:pt x="224" y="553"/>
                  <a:pt x="162" y="672"/>
                </a:cubicBezTo>
                <a:cubicBezTo>
                  <a:pt x="100" y="791"/>
                  <a:pt x="0" y="854"/>
                  <a:pt x="6" y="960"/>
                </a:cubicBezTo>
                <a:cubicBezTo>
                  <a:pt x="12" y="1066"/>
                  <a:pt x="158" y="1288"/>
                  <a:pt x="198" y="1308"/>
                </a:cubicBezTo>
                <a:cubicBezTo>
                  <a:pt x="238" y="1328"/>
                  <a:pt x="253" y="1145"/>
                  <a:pt x="246" y="1080"/>
                </a:cubicBezTo>
                <a:cubicBezTo>
                  <a:pt x="239" y="1015"/>
                  <a:pt x="126" y="1018"/>
                  <a:pt x="156" y="918"/>
                </a:cubicBezTo>
                <a:cubicBezTo>
                  <a:pt x="186" y="818"/>
                  <a:pt x="370" y="574"/>
                  <a:pt x="426" y="480"/>
                </a:cubicBezTo>
                <a:cubicBezTo>
                  <a:pt x="482" y="386"/>
                  <a:pt x="451" y="342"/>
                  <a:pt x="492" y="354"/>
                </a:cubicBezTo>
                <a:cubicBezTo>
                  <a:pt x="533" y="366"/>
                  <a:pt x="598" y="455"/>
                  <a:pt x="672" y="552"/>
                </a:cubicBezTo>
                <a:cubicBezTo>
                  <a:pt x="746" y="649"/>
                  <a:pt x="841" y="792"/>
                  <a:pt x="936" y="936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6068880" y="3227400"/>
            <a:ext cx="304920" cy="4744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6329520" y="3514320"/>
            <a:ext cx="250560" cy="142920"/>
          </a:xfrm>
          <a:prstGeom prst="line">
            <a:avLst/>
          </a:prstGeom>
          <a:ln w="936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63D46-FDD3-40B5-BCEE-9267A8FDED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5975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ame of tic-tac-toe</a:t>
            </a:r>
            <a:br>
              <a:rPr sz="32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ail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spinroot.com/gerard/pdf/spin04.pd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496880" y="1568520"/>
            <a:ext cx="0" cy="78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811160" y="1568520"/>
            <a:ext cx="0" cy="78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263600" y="1792080"/>
            <a:ext cx="781200" cy="314280"/>
            <a:chOff x="1263600" y="1792080"/>
            <a:chExt cx="781200" cy="314280"/>
          </a:xfrm>
        </p:grpSpPr>
        <p:sp>
          <p:nvSpPr>
            <p:cNvPr id="405" name=""/>
            <p:cNvSpPr/>
            <p:nvPr/>
          </p:nvSpPr>
          <p:spPr>
            <a:xfrm>
              <a:off x="1263600" y="2106360"/>
              <a:ext cx="78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263600" y="1792080"/>
              <a:ext cx="78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1209600" y="1433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515960" y="1747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796760" y="200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9400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98800" y="175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78956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01680" y="1434960"/>
            <a:ext cx="882720" cy="92232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65320" y="2700360"/>
            <a:ext cx="56350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structure for a classic Spin mode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ypedef Row   { byte s[3]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ypedef Board { Row r[3]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ard b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 players make alternate mo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toggle bit variable z determines whose move it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urrent player non-deterministically selects a valid 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rkes an empty square with a 0 or 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eck after each move if the new position is a w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yes stop, if no repe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170000" y="2674800"/>
            <a:ext cx="7577280" cy="1605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170000" y="4361040"/>
            <a:ext cx="7569360" cy="17683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142D9-CD24-48A9-B157-66C0B8F35F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5975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544920" y="1292400"/>
            <a:ext cx="2019240" cy="277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5562360" y="3833640"/>
            <a:ext cx="2821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Lucent Pathstar</a:t>
            </a:r>
            <a:r>
              <a:rPr b="1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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 voice+data swi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(1998-200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 extraction..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ling model chec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88960" y="4338720"/>
            <a:ext cx="680904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ributed system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ltiple asynchronous threads of execution per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ftware cleanly sepa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oriented code (state/event   processing)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control oriented (sequential)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44600" y="158760"/>
            <a:ext cx="3129840" cy="71784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ourier New"/>
              </a:rPr>
              <a:t>detail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ourier New"/>
              </a:rPr>
              <a:t>Automating Software Feature Verif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Courier New"/>
              </a:rPr>
              <a:t>Bell Labs Technical Journal</a:t>
            </a:r>
            <a:r>
              <a:rPr b="1" lang="en-US" sz="800" spc="-1" strike="noStrike">
                <a:solidFill>
                  <a:srgbClr val="ffffff"/>
                </a:solidFill>
                <a:latin typeface="Courier New"/>
              </a:rPr>
              <a:t>, Vol. 5, No. 2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ourier New"/>
              </a:rPr>
              <a:t>April-June 2000, pp. 72-87. </a:t>
            </a:r>
            <a:br>
              <a:rPr sz="800"/>
            </a:b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http://spinroot.com/gerard/pdf/bltj2000.p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4297E-D218-404F-8930-4C7FF4DB93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5975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2259000" y="622440"/>
            <a:ext cx="5209920" cy="557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#define SQ(x,y) !b.r[x].s[y] -&gt; b.r[x].s[y] = z+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#define H(v,w)  b.r[v].s[0]==w &amp;&amp; b.r[v].s[1]==w &amp;&amp; b.r[v].s[2]==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#define V(v,w)  b.r[0].s[v]==w &amp;&amp; b.r[1].s[v]==w &amp;&amp; b.r[2].s[v]==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#define UD(w)   b.r[0].s[0]==w &amp;&amp; b.r[1].s[1]==w &amp;&amp; b.r[2].s[2]==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#define DD(w)   b.r[2].s[0]==w &amp;&amp; b.r[1].s[1]==w &amp;&amp; b.r[0].s[2]==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typedef Row   { byte s[3]; }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typedef Board { Row  r[3]; }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Board b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bit z, wo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it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:: atomic { /* do not store intermediate states *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!won -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/* all valid moves *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:: SQ(0,0) :: SQ(0,1) :: SQ(0,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:: SQ(1,0) :: SQ(1,1) :: SQ(1,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:: SQ(2,0) :: SQ(2,1) :: SQ(2,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:: else -&gt; break /* a draw: game over *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/* winning positions *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:: H(0,z+1) || H(1,z+1) || H(2,z+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|| V(0,z+1) || V(1,z+1) || V(2,z+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|| UD(z+1)  || DD(z+1) -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/* print winning position *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intf("%d %d %d\n%d %d %d\n%d %d %d\n"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b.r[0].s[0], b.r[0].s[1], b.r[0].s[2]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b.r[1].s[0], b.r[1].s[1], b.r[1].s[2]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b.r[2].s[0], b.r[2].s[1], b.r[2].s[2]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won = true /* and force a stop *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:: else -&gt; z = 1 - z   /* continue *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/* end of atomic *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900000" y="622440"/>
            <a:ext cx="13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Courier New"/>
              </a:rPr>
              <a:t>tic-tac-toe.p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2A9A7-2F48-4542-8961-0A96E52048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5975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erification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504800" y="1498680"/>
            <a:ext cx="5772240" cy="1739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me analys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65 unique board pos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taking out rotation, mirror, etc. symmetr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5 winning pos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ximally 9 moves in a g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497600" y="3416400"/>
            <a:ext cx="5764680" cy="1465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means that the minimum problem complexity 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s:   76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th:   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s: 1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lassic spin model (see paper) explo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s: 5,51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th: 4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s: 942 pos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509840" y="5029200"/>
            <a:ext cx="572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ould benefit from considering symme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’re not using abstraction effectiv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7A08F-C0C8-406E-99D5-6F0018D404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5975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al-life verification contex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722160" y="147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f the data structure (the game board) and the move generator were defined in C, and not in Prom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al application runs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oncre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non-abstracted)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verifier wants to run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bstract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we reconcile these tw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nning the real application, using concrete data for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n by the model checker, using abstract data for ver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BECA7-B762-4744-A41F-28D0499317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5975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nt-end for C func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pin model “driv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509840" y="1293840"/>
            <a:ext cx="5057640" cy="46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#define SQ(a,b)   c_expr { (!board[a][b]) } -&gt; x=a; y=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_decl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xtern short board[3][3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xtern short play(int, int, int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_track "&amp;board[0][0]" "sizeof(board)"; /* default: “Matched” *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byte x, y, z, wo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it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:: atomic { !won -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  /* all valid moves, pick x and y *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:: SQ(0,0) :: SQ(0,1) :: SQ(0,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:: SQ(1,0) :: SQ(1,1) :: SQ(1,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:: SQ(2,0) :: SQ(2,1) :: SQ(2,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/* draw */ :: else -&gt; bre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_code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witch (play(now.x, now.y, now.z+1)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/* toggle */ case 1: now.z = 1 - now.z; break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/* we won */ case 2: now.won = 1; break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ow.x = now.y = 0; /* reset *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591960" y="4284720"/>
            <a:ext cx="242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mov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s an external C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flipV="1">
            <a:off x="3587400" y="4540320"/>
            <a:ext cx="3087720" cy="17280"/>
          </a:xfrm>
          <a:prstGeom prst="line">
            <a:avLst/>
          </a:prstGeom>
          <a:ln w="936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587280" y="1556640"/>
            <a:ext cx="20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ternally decl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 data descriptio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game bo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4384440" y="2003400"/>
            <a:ext cx="2266920" cy="0"/>
          </a:xfrm>
          <a:prstGeom prst="line">
            <a:avLst/>
          </a:prstGeom>
          <a:ln w="936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750720" y="2690640"/>
            <a:ext cx="146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_track f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game bo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4466880" y="2611080"/>
            <a:ext cx="2265480" cy="328680"/>
          </a:xfrm>
          <a:prstGeom prst="line">
            <a:avLst/>
          </a:prstGeom>
          <a:ln w="936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835320" y="3506760"/>
            <a:ext cx="172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non-determin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mov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5132160" y="3801960"/>
            <a:ext cx="1625400" cy="0"/>
          </a:xfrm>
          <a:prstGeom prst="line">
            <a:avLst/>
          </a:prstGeom>
          <a:ln w="936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8DE78-6B32-463D-806D-DC2B802C3D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5975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aris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524240" y="1444680"/>
            <a:ext cx="5828760" cy="2288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u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s:   76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th:   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s: 135 posi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 spin mode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s: 551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th: 4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s: 9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in model with embedded C co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s: 55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th: 3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s: 9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548360" y="4087800"/>
            <a:ext cx="640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version remains close to the handwritten pure Spi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’re still not using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bstrac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but now 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ve fewer choices to do so, becaus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 data is in 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the move update is a given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iece of C co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at 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 not want to have to rewrite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63679-8A16-4CF9-914F-B4ED730E1C5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5975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d181e"/>
                </a:solidFill>
                <a:latin typeface="Arial"/>
              </a:rPr>
              <a:t>method</a:t>
            </a:r>
            <a:r>
              <a:rPr b="0" lang="en-US" sz="2400" spc="-1" strike="noStrike">
                <a:solidFill>
                  <a:srgbClr val="ed181e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rack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ncre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ata value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match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bstra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ata val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025640" y="1236600"/>
            <a:ext cx="5057640" cy="49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_decl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xtern short board[3][3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xtern short play(int, int, int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ed181e"/>
                </a:solidFill>
                <a:latin typeface="Courier New"/>
              </a:rPr>
              <a:t>extern short abstract;</a:t>
            </a:r>
            <a:r>
              <a:rPr b="1" lang="en-US" sz="10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808080"/>
                </a:solidFill>
                <a:latin typeface="Courier New"/>
              </a:rPr>
              <a:t>/* abstract board values *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_track "&amp;board[0][0]" "sizeof(board)" </a:t>
            </a:r>
            <a:r>
              <a:rPr b="1" lang="en-US" sz="1000" spc="-1" strike="noStrike">
                <a:solidFill>
                  <a:srgbClr val="ed181e"/>
                </a:solidFill>
                <a:latin typeface="Courier New"/>
              </a:rPr>
              <a:t>"UnMatched"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d181e"/>
                </a:solidFill>
                <a:latin typeface="Courier New"/>
              </a:rPr>
              <a:t>c_track "&amp;abstract"    "sizeof(short)" "Matched"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_code { ... } </a:t>
            </a:r>
            <a:r>
              <a:rPr b="1" lang="en-US" sz="1000" spc="-1" strike="noStrike">
                <a:solidFill>
                  <a:srgbClr val="808080"/>
                </a:solidFill>
                <a:latin typeface="Courier New"/>
              </a:rPr>
              <a:t>/* declare C function: abstract_value() *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byte x, y, z, wo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it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:: atomic { !won -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:: SQ(0,0) :: SQ(0,1) :: SQ(0,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:: SQ(1,0) :: SQ(1,1) :: SQ(1,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:: SQ(2,0) :: SQ(2,1) :: SQ(2,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:: else -&gt; bre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_code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witch (play(now.x, now.y, now.z+1)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se 1: now.z = 1 - now.z; break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se 2: now.won = 1; break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ow.x = now.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d181e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ed181e"/>
                </a:solidFill>
                <a:latin typeface="Courier New"/>
              </a:rPr>
              <a:t>abstract_value();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808080"/>
                </a:solidFill>
                <a:latin typeface="Courier New"/>
              </a:rPr>
              <a:t>/* compute abstract board value *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74000" y="2031840"/>
            <a:ext cx="2319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concrete data val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e </a:t>
            </a:r>
            <a:r>
              <a:rPr b="0" i="1" lang="en-US" sz="1400" spc="-1" strike="noStrike">
                <a:solidFill>
                  <a:srgbClr val="ffff00"/>
                </a:solidFill>
                <a:latin typeface="Arial"/>
              </a:rPr>
              <a:t>tracked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, but </a:t>
            </a:r>
            <a:r>
              <a:rPr b="0" i="1" lang="en-US" sz="1400" spc="-1" strike="noStrike">
                <a:solidFill>
                  <a:srgbClr val="ffff00"/>
                </a:solidFill>
                <a:latin typeface="Arial"/>
              </a:rPr>
              <a:t>not sto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 the statev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(i.e., they are </a:t>
            </a:r>
            <a:r>
              <a:rPr b="0" i="1" lang="en-US" sz="1400" spc="-1" strike="noStrike">
                <a:solidFill>
                  <a:srgbClr val="ffff00"/>
                </a:solidFill>
                <a:latin typeface="Arial"/>
              </a:rPr>
              <a:t>not match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217200" y="3270240"/>
            <a:ext cx="252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bstract data is </a:t>
            </a:r>
            <a:r>
              <a:rPr b="0" i="1" lang="en-US" sz="1400" spc="-1" strike="noStrike">
                <a:solidFill>
                  <a:srgbClr val="ffff00"/>
                </a:solidFill>
                <a:latin typeface="Arial"/>
              </a:rPr>
              <a:t>tracked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Arial"/>
              </a:rPr>
              <a:t>stored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 the statevector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ecomputed after every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transition that could affect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concrete data val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 flipV="1">
            <a:off x="5098680" y="2282400"/>
            <a:ext cx="1149480" cy="82440"/>
          </a:xfrm>
          <a:prstGeom prst="line">
            <a:avLst/>
          </a:prstGeom>
          <a:ln w="936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4959000" y="2455920"/>
            <a:ext cx="1346040" cy="976320"/>
          </a:xfrm>
          <a:prstGeom prst="line">
            <a:avLst/>
          </a:prstGeom>
          <a:ln w="936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216840" y="4614120"/>
            <a:ext cx="2856960" cy="1372680"/>
          </a:xfrm>
          <a:prstGeom prst="rect">
            <a:avLst/>
          </a:prstGeom>
          <a:noFill/>
          <a:ln w="9360">
            <a:solidFill>
              <a:srgbClr val="ed181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logical soundness of abstracti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(1) the abstraction defines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isimulation relation 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(2) any two bisimilar states satisf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the same proposi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ormul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70059-117C-4087-81BE-A887AF1A813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5975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ul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527480" y="1444680"/>
            <a:ext cx="5873040" cy="3111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u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s:   76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th:   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s: 135 posi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 spin mode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s: 551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th: 4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s: 9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in model with embedded C co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s: 55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th: 3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s: 9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pin model with embedded C code and data abstrac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s: 77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pth: 3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ins: 1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395FB-30CE-42DC-B468-A31EF93CD31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5975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ther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CFF00-E566-4B1D-8692-17DD1C84D05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5975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e application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ifying the MER Arbiter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347000" y="1447920"/>
            <a:ext cx="225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11 user 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15 shared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348440" y="2209680"/>
            <a:ext cx="457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rbiter co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,960 lines of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solution algorithm + lookup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257800" y="5486400"/>
            <a:ext cx="27684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ample requiremen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Arial"/>
              </a:rPr>
              <a:t>communication always tak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Arial"/>
              </a:rPr>
              <a:t>precedence over dri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514760" y="3282480"/>
            <a:ext cx="3838320" cy="210564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#define _K ARB_ACT_RESCIN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#define _R ARB_ACT_DEN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#define _Q ARB_ACT_PEN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#define _G ARB_ACT_GRA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#define _X ARB_ACT_RESCIND_AND_DEN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#define _N ARB_ACT_NONSENS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/*          1  2  3  4  5  6  7  8  9 10 11 12 13 14 15                   *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DEF_ACTION(_N,_K,_G,_G,_G,_G,_K,_G,_G,_G,_G,_G,_G,_G,_G) /*  1 - HGA_COMM  *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DEF_ACTION(_R,_Q,_G,_G,_G,_G,_R,_G,_G,_G,_G,_G,_G,_G,_G) /*  2 - HGA_NOM   *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DEF_ACTION(_G,_G,_N,_K,_K,_K,_K,_K,_G,_G,_G,_G,_G,_G,_G) /*  3 - MAST_COMM *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DEF_ACTION(_G,_G,_Q,_Q,_Q,_Q,_R,_G,_G,_G,_G,_G,_G,_G,_G) /*  4 - MAST_NOM  *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DEF_ACTION(_G,_G,_R,_Q,_Q,_Q,_R,_G,_G,_G,_G,_G,_G,_G,_G) /*  5 - MAST_ATT  *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DEF_ACTION(_G,_G,_Q,_Q,_Q,_N,_R,_G,_G,_G,_G,_G,_G,_G,_G) /*  6 - MAST_MINI_TES 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DEF_ACTION(_R,_R,_R,_R,_X,_R,_N,_R,_R,_G,_G,_G,_G,_G,_G) /*  7 - DRIVE     *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DEF_ACTION(_G,_G,_Q,_G,_Q,_G,_R,_N,_R,_G,_G,_G,_G,_G,_G) /*  8 - ARM       *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DEF_ACTION(_G,_G,_G,_G,_G,_G,_R,_X,_N,_G,_G,_G,_G,_G,_G) /*  9 - RAT       *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DEF_ACTION(_G,_G,_G,_G,_G,_G,_G,_G,_G,_N,_R,_G,_G,_G,_G) /* 10 - UP_LOSS   *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DEF_ACTION(_G,_G,_G,_G,_G,_G,_G,_G,_G,_K,_N,_G,_G,_G,_G) /* 11 - LOW_PWR   *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DEF_ACTION(_G,_G,_G,_G,_G,_G,_G,_G,_G,_G,_G,_N,_K,_K,_K) /* 12 - SURF_MCLK *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DEF_ACTION(_G,_G,_G,_G,_G,_G,_G,_G,_G,_G,_G,_R,_N,_K,_K) /* 13 - SURF_UPL  *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DEF_ACTION(_G,_G,_G,_G,_G,_G,_G,_G,_G,_G,_G,_R,_R,_N,_K) /* 14 - SURF_PWR  *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DEF_ACTION(_G,_G,_G,_G,_G,_G,_G,_G,_G,_G,_G,_R,_R,_R,_N) /* 15 - SURF_COMM *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609480" y="1295280"/>
            <a:ext cx="3581280" cy="4724640"/>
            <a:chOff x="609480" y="1295280"/>
            <a:chExt cx="3581280" cy="4724640"/>
          </a:xfrm>
        </p:grpSpPr>
        <p:sp>
          <p:nvSpPr>
            <p:cNvPr id="454" name=""/>
            <p:cNvSpPr/>
            <p:nvPr/>
          </p:nvSpPr>
          <p:spPr>
            <a:xfrm>
              <a:off x="609480" y="1295280"/>
              <a:ext cx="3581280" cy="472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361960" y="1828800"/>
              <a:ext cx="0" cy="40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809880" y="1828800"/>
              <a:ext cx="0" cy="40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361960" y="205740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2361960" y="25909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066680" y="1828800"/>
              <a:ext cx="0" cy="40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066680" y="29718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2361960" y="33526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361960" y="37339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1066680" y="41148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592720" y="1752480"/>
              <a:ext cx="8575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593080" y="2286000"/>
              <a:ext cx="6426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221120" y="2590920"/>
              <a:ext cx="8575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91640" y="3048120"/>
              <a:ext cx="8359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ci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590920" y="3429000"/>
              <a:ext cx="7689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nc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221480" y="3809880"/>
              <a:ext cx="6426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30520" y="1407960"/>
              <a:ext cx="4719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126160" y="1407960"/>
              <a:ext cx="4719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506760" y="1371600"/>
              <a:ext cx="535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14040" y="5029200"/>
              <a:ext cx="327672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361960" y="457200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2361960" y="51055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592720" y="4267080"/>
              <a:ext cx="8575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592000" y="4800600"/>
              <a:ext cx="6210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n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056960" y="54864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209960" y="5105520"/>
              <a:ext cx="7689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nc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EF895-F2FC-41F8-88C1-C29FBF974F6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5975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440" y="1414440"/>
            <a:ext cx="8067600" cy="533520"/>
          </a:xfrm>
          <a:prstGeom prst="rect">
            <a:avLst/>
          </a:pr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76440" y="2070000"/>
            <a:ext cx="8038800" cy="1263600"/>
          </a:xfrm>
          <a:prstGeom prst="rect">
            <a:avLst/>
          </a:prstGeom>
          <a:solidFill>
            <a:srgbClr val="ffffff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ifying the MER resource arbi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76440" y="156168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rect test of arbiter C code, random test runs, + 11 user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in model of arbiter + 3 user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modified arbiter C code, Spin front-end, + 11 user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822760" y="681840"/>
            <a:ext cx="35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ways to tackle this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043480" y="156384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d181e"/>
                </a:solidFill>
                <a:latin typeface="Arial"/>
              </a:rPr>
              <a:t>defa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042040" y="2154240"/>
            <a:ext cx="71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d181e"/>
                </a:solidFill>
                <a:latin typeface="Arial"/>
              </a:rPr>
              <a:t>class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251560" y="275436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d181e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3BDF6-BF8C-4E7E-999D-9313F6A55F5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5975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52400" y="1417680"/>
            <a:ext cx="4294440" cy="3230640"/>
          </a:xfrm>
          <a:prstGeom prst="ellipse">
            <a:avLst/>
          </a:prstGeom>
          <a:solidFill>
            <a:srgbClr val="eaeaea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801800" y="1959120"/>
            <a:ext cx="6948720" cy="2250360"/>
            <a:chOff x="1801800" y="1959120"/>
            <a:chExt cx="6948720" cy="2250360"/>
          </a:xfrm>
        </p:grpSpPr>
        <p:sp>
          <p:nvSpPr>
            <p:cNvPr id="57" name=""/>
            <p:cNvSpPr/>
            <p:nvPr/>
          </p:nvSpPr>
          <p:spPr>
            <a:xfrm>
              <a:off x="1801800" y="1959120"/>
              <a:ext cx="3038400" cy="2203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250960" y="2287440"/>
              <a:ext cx="3499560" cy="19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O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+ approx. 50 featu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call waiting, call forwarding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all screening, etc.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llowing ~2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Arial"/>
                </a:rPr>
                <a:t>50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possible 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ombinations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55600" y="2367000"/>
              <a:ext cx="20944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ll processing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3,099 lines of 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60840" y="2584440"/>
              <a:ext cx="660600" cy="33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696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thstar softwa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371760" y="3321000"/>
            <a:ext cx="5538600" cy="2323440"/>
            <a:chOff x="3371760" y="3321000"/>
            <a:chExt cx="5538600" cy="2323440"/>
          </a:xfrm>
        </p:grpSpPr>
        <p:sp>
          <p:nvSpPr>
            <p:cNvPr id="63" name=""/>
            <p:cNvSpPr/>
            <p:nvPr/>
          </p:nvSpPr>
          <p:spPr>
            <a:xfrm>
              <a:off x="3371760" y="3321000"/>
              <a:ext cx="776520" cy="569880"/>
            </a:xfrm>
            <a:prstGeom prst="ellipse">
              <a:avLst/>
            </a:prstGeom>
            <a:noFill/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26200" y="4637160"/>
              <a:ext cx="448416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ore piece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ontrol code at the heart of the switch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~1,500 lines of 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787920" y="3706920"/>
              <a:ext cx="677880" cy="101916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493920" y="4667400"/>
            <a:ext cx="2836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hStar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~ 2 million lines of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39986-09A1-4E32-9D1B-AF9759F75B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5975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ifying the arbi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014560" y="67572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1: using the original arbiter C code – random tes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375080" y="2712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8370720" y="3673440"/>
            <a:ext cx="365400" cy="59688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32960" y="122868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 original flight code of arbiter written in C, as 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de separately compilable by stubbing calls to rest of MER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prox 457 lines of C added for 27 stubbed fct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random test interface, simulating requests from 11 user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property-checking demons as additional C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ile and run (ran random test for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17 hours straigh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ly works for safety (our sample requirement is a liveness propert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confidence in coverage of test, no matter how long the test is continu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sible re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nd a way to use the model checker to drive the t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n deliver guarantees of coverage + allows us to test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logic proper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FBF28-C9E3-45AE-9C8F-8175AD4B0A4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5975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 rot="664200">
            <a:off x="7646760" y="933480"/>
            <a:ext cx="1069920" cy="228600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71480" y="-360"/>
            <a:ext cx="77724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ifying the arbi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7791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roa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re Spin v4 model of arbiter algorithm + user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bedded original C lookup table into th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l Siz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80 lines of Prome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7 lines of original lookup table in C (the only part in 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 users:     2,702 reachable states; verification in &lt;&lt;0.1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 users: 345,352 states; verification in 3.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sily finds potential property violations (none considered importa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for 3 users, finds first violation in &lt;&lt;0.1sec after exploring &lt;1,000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bl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nds bugs, b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w do we know if the hand-built Spin model is accurat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sible resolu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 the original flight code – limit the number of artifacts built to test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04400" y="646920"/>
            <a:ext cx="35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: Spin model of arbiter 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6932520" y="4597560"/>
            <a:ext cx="365040" cy="75240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3"/>
          <a:stretch/>
        </p:blipFill>
        <p:spPr>
          <a:xfrm>
            <a:off x="7709040" y="2193840"/>
            <a:ext cx="1272960" cy="14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500A8-7EF0-4513-8A52-9A82E19BD76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5975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-driven verification with abstrac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440" y="1247400"/>
            <a:ext cx="811548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roa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,960 lines of original flight code for abiter (algorithm, table, + support fc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7 stubbed function calls to rest of MER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47 lines for a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minimal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front-end Spin model, to serve as the test-dr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st-driver models requests/responses for all 11 user threads and all 15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pin captures and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track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(an abstraction of) the arbiter’s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voids redundancies from random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now systematically explore the full arbiter state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-abstraction can be used to reduce complex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g., order in which reservations are stored in the arbiters linked list is irrelevant – mapped to fixed order before state matching in spin – a form of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symmetry 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su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nds both safety and liveness violations (none seriou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LTL: !([]p -&gt; (p U (p &amp;&amp; q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: (user[CBM_ARBUSER ]:rid == HGA_COMM &amp;&amp; user[CBM_ARBUSER ]@wait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: (arb?[Grant, CBM_ARBUSER, HGA_COMM 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olation found after inspecting 1.14 10</a:t>
            </a:r>
            <a:r>
              <a:rPr b="0" lang="en-US" sz="1200" spc="-1" strike="noStrike" baseline="30000">
                <a:solidFill>
                  <a:srgbClr val="ffffff"/>
                </a:solidFill>
                <a:latin typeface="Arial"/>
              </a:rPr>
              <a:t>7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tes in 9 min 19s (~20Kstates/sec, &gt;&gt;5K scenarios/se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464120" y="637560"/>
            <a:ext cx="641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: original full arbiter code in C + non-deterministic Spin 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4151160" y="5187960"/>
            <a:ext cx="3646080" cy="747720"/>
            <a:chOff x="4151160" y="5187960"/>
            <a:chExt cx="3646080" cy="747720"/>
          </a:xfrm>
        </p:grpSpPr>
        <p:sp>
          <p:nvSpPr>
            <p:cNvPr id="503" name=""/>
            <p:cNvSpPr/>
            <p:nvPr/>
          </p:nvSpPr>
          <p:spPr>
            <a:xfrm>
              <a:off x="5003640" y="5362560"/>
              <a:ext cx="465120" cy="466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110280" y="5362560"/>
              <a:ext cx="465120" cy="466560"/>
            </a:xfrm>
            <a:prstGeom prst="ellipse">
              <a:avLst/>
            </a:prstGeom>
            <a:solidFill>
              <a:srgbClr val="ed18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146640" y="5397480"/>
              <a:ext cx="392400" cy="395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381640" y="5213160"/>
              <a:ext cx="757080" cy="200160"/>
            </a:xfrm>
            <a:custGeom>
              <a:avLst/>
              <a:gdLst/>
              <a:ahLst/>
              <a:rect l="l" t="t" r="r" b="b"/>
              <a:pathLst>
                <a:path w="624" h="164">
                  <a:moveTo>
                    <a:pt x="0" y="152"/>
                  </a:moveTo>
                  <a:cubicBezTo>
                    <a:pt x="98" y="76"/>
                    <a:pt x="196" y="0"/>
                    <a:pt x="300" y="2"/>
                  </a:cubicBezTo>
                  <a:cubicBezTo>
                    <a:pt x="404" y="4"/>
                    <a:pt x="514" y="84"/>
                    <a:pt x="624" y="1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65520" y="5252760"/>
              <a:ext cx="466920" cy="682920"/>
            </a:xfrm>
            <a:custGeom>
              <a:avLst/>
              <a:gdLst/>
              <a:ahLst/>
              <a:rect l="l" t="t" r="r" b="b"/>
              <a:pathLst>
                <a:path w="385" h="561">
                  <a:moveTo>
                    <a:pt x="385" y="407"/>
                  </a:moveTo>
                  <a:cubicBezTo>
                    <a:pt x="332" y="484"/>
                    <a:pt x="280" y="561"/>
                    <a:pt x="217" y="545"/>
                  </a:cubicBezTo>
                  <a:cubicBezTo>
                    <a:pt x="154" y="529"/>
                    <a:pt x="14" y="398"/>
                    <a:pt x="7" y="311"/>
                  </a:cubicBezTo>
                  <a:cubicBezTo>
                    <a:pt x="0" y="224"/>
                    <a:pt x="113" y="46"/>
                    <a:pt x="175" y="23"/>
                  </a:cubicBezTo>
                  <a:cubicBezTo>
                    <a:pt x="237" y="0"/>
                    <a:pt x="308" y="86"/>
                    <a:pt x="379" y="1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6536520" y="5252760"/>
              <a:ext cx="466920" cy="682920"/>
            </a:xfrm>
            <a:custGeom>
              <a:avLst/>
              <a:gdLst/>
              <a:ahLst/>
              <a:rect l="l" t="t" r="r" b="b"/>
              <a:pathLst>
                <a:path w="385" h="561">
                  <a:moveTo>
                    <a:pt x="385" y="407"/>
                  </a:moveTo>
                  <a:cubicBezTo>
                    <a:pt x="332" y="484"/>
                    <a:pt x="280" y="561"/>
                    <a:pt x="217" y="545"/>
                  </a:cubicBezTo>
                  <a:cubicBezTo>
                    <a:pt x="154" y="529"/>
                    <a:pt x="14" y="398"/>
                    <a:pt x="7" y="311"/>
                  </a:cubicBezTo>
                  <a:cubicBezTo>
                    <a:pt x="0" y="224"/>
                    <a:pt x="113" y="46"/>
                    <a:pt x="175" y="23"/>
                  </a:cubicBezTo>
                  <a:cubicBezTo>
                    <a:pt x="237" y="0"/>
                    <a:pt x="308" y="86"/>
                    <a:pt x="379" y="1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613480" y="5187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151160" y="5383080"/>
              <a:ext cx="48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950520" y="5429160"/>
              <a:ext cx="84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 &amp;&amp; !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FB9A8-3550-497A-9DCC-FF7E3D974B6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5975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39760" y="1897200"/>
            <a:ext cx="4311720" cy="290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0680" y="220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verification “test harnes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56320" y="2855880"/>
            <a:ext cx="1843200" cy="628560"/>
          </a:xfrm>
          <a:custGeom>
            <a:avLst/>
            <a:gdLst/>
            <a:ahLst/>
            <a:rect l="l" t="t" r="r" b="b"/>
            <a:pathLst>
              <a:path w="1161" h="396">
                <a:moveTo>
                  <a:pt x="0" y="237"/>
                </a:moveTo>
                <a:lnTo>
                  <a:pt x="79" y="164"/>
                </a:lnTo>
                <a:lnTo>
                  <a:pt x="179" y="96"/>
                </a:lnTo>
                <a:lnTo>
                  <a:pt x="265" y="54"/>
                </a:lnTo>
                <a:lnTo>
                  <a:pt x="364" y="23"/>
                </a:lnTo>
                <a:lnTo>
                  <a:pt x="444" y="8"/>
                </a:lnTo>
                <a:lnTo>
                  <a:pt x="527" y="0"/>
                </a:lnTo>
                <a:lnTo>
                  <a:pt x="629" y="1"/>
                </a:lnTo>
                <a:lnTo>
                  <a:pt x="731" y="15"/>
                </a:lnTo>
                <a:lnTo>
                  <a:pt x="833" y="41"/>
                </a:lnTo>
                <a:lnTo>
                  <a:pt x="936" y="82"/>
                </a:lnTo>
                <a:lnTo>
                  <a:pt x="1049" y="147"/>
                </a:lnTo>
                <a:lnTo>
                  <a:pt x="1136" y="218"/>
                </a:lnTo>
                <a:lnTo>
                  <a:pt x="1161" y="240"/>
                </a:lnTo>
                <a:lnTo>
                  <a:pt x="1000" y="388"/>
                </a:lnTo>
                <a:lnTo>
                  <a:pt x="943" y="349"/>
                </a:lnTo>
                <a:lnTo>
                  <a:pt x="864" y="305"/>
                </a:lnTo>
                <a:lnTo>
                  <a:pt x="789" y="272"/>
                </a:lnTo>
                <a:lnTo>
                  <a:pt x="710" y="255"/>
                </a:lnTo>
                <a:lnTo>
                  <a:pt x="628" y="231"/>
                </a:lnTo>
                <a:lnTo>
                  <a:pt x="536" y="231"/>
                </a:lnTo>
                <a:lnTo>
                  <a:pt x="459" y="240"/>
                </a:lnTo>
                <a:lnTo>
                  <a:pt x="367" y="263"/>
                </a:lnTo>
                <a:lnTo>
                  <a:pt x="282" y="301"/>
                </a:lnTo>
                <a:lnTo>
                  <a:pt x="210" y="358"/>
                </a:lnTo>
                <a:lnTo>
                  <a:pt x="164" y="396"/>
                </a:lnTo>
                <a:lnTo>
                  <a:pt x="0" y="237"/>
                </a:lnTo>
              </a:path>
            </a:pathLst>
          </a:cu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57880" y="1701720"/>
            <a:ext cx="628560" cy="579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31040" y="288144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22040" y="141588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946920" y="2887560"/>
            <a:ext cx="2017080" cy="518760"/>
            <a:chOff x="6946920" y="2887560"/>
            <a:chExt cx="2017080" cy="518760"/>
          </a:xfrm>
        </p:grpSpPr>
        <p:sp>
          <p:nvSpPr>
            <p:cNvPr id="74" name=""/>
            <p:cNvSpPr/>
            <p:nvPr/>
          </p:nvSpPr>
          <p:spPr>
            <a:xfrm>
              <a:off x="7517160" y="2887560"/>
              <a:ext cx="14468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omic Sans MS"/>
                </a:rPr>
                <a:t>implemented 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omic Sans MS"/>
                </a:rPr>
                <a:t>a lookup - 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6946920" y="3084480"/>
              <a:ext cx="5745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6886440" y="3224160"/>
            <a:ext cx="2260800" cy="2315880"/>
            <a:chOff x="6886440" y="3224160"/>
            <a:chExt cx="2260800" cy="2315880"/>
          </a:xfrm>
        </p:grpSpPr>
        <p:sp>
          <p:nvSpPr>
            <p:cNvPr id="77" name=""/>
            <p:cNvSpPr/>
            <p:nvPr/>
          </p:nvSpPr>
          <p:spPr>
            <a:xfrm>
              <a:off x="7243920" y="3224160"/>
              <a:ext cx="649080" cy="1801800"/>
            </a:xfrm>
            <a:custGeom>
              <a:avLst/>
              <a:gdLst/>
              <a:ahLst/>
              <a:rect l="l" t="t" r="r" b="b"/>
              <a:pathLst>
                <a:path w="409" h="1135">
                  <a:moveTo>
                    <a:pt x="158" y="0"/>
                  </a:moveTo>
                  <a:lnTo>
                    <a:pt x="232" y="77"/>
                  </a:lnTo>
                  <a:lnTo>
                    <a:pt x="304" y="178"/>
                  </a:lnTo>
                  <a:lnTo>
                    <a:pt x="347" y="262"/>
                  </a:lnTo>
                  <a:lnTo>
                    <a:pt x="381" y="360"/>
                  </a:lnTo>
                  <a:lnTo>
                    <a:pt x="397" y="438"/>
                  </a:lnTo>
                  <a:lnTo>
                    <a:pt x="408" y="520"/>
                  </a:lnTo>
                  <a:lnTo>
                    <a:pt x="408" y="618"/>
                  </a:lnTo>
                  <a:lnTo>
                    <a:pt x="396" y="718"/>
                  </a:lnTo>
                  <a:lnTo>
                    <a:pt x="371" y="818"/>
                  </a:lnTo>
                  <a:lnTo>
                    <a:pt x="332" y="918"/>
                  </a:lnTo>
                  <a:lnTo>
                    <a:pt x="268" y="1026"/>
                  </a:lnTo>
                  <a:lnTo>
                    <a:pt x="198" y="1109"/>
                  </a:lnTo>
                  <a:lnTo>
                    <a:pt x="177" y="1134"/>
                  </a:lnTo>
                  <a:lnTo>
                    <a:pt x="3" y="966"/>
                  </a:lnTo>
                  <a:lnTo>
                    <a:pt x="49" y="920"/>
                  </a:lnTo>
                  <a:lnTo>
                    <a:pt x="105" y="843"/>
                  </a:lnTo>
                  <a:lnTo>
                    <a:pt x="137" y="770"/>
                  </a:lnTo>
                  <a:lnTo>
                    <a:pt x="153" y="693"/>
                  </a:lnTo>
                  <a:lnTo>
                    <a:pt x="175" y="613"/>
                  </a:lnTo>
                  <a:lnTo>
                    <a:pt x="173" y="523"/>
                  </a:lnTo>
                  <a:lnTo>
                    <a:pt x="164" y="448"/>
                  </a:lnTo>
                  <a:lnTo>
                    <a:pt x="138" y="358"/>
                  </a:lnTo>
                  <a:lnTo>
                    <a:pt x="97" y="273"/>
                  </a:lnTo>
                  <a:lnTo>
                    <a:pt x="40" y="202"/>
                  </a:lnTo>
                  <a:lnTo>
                    <a:pt x="0" y="158"/>
                  </a:lnTo>
                  <a:lnTo>
                    <a:pt x="158" y="0"/>
                  </a:lnTo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6886440" y="3597120"/>
              <a:ext cx="2260800" cy="1942920"/>
              <a:chOff x="6886440" y="3597120"/>
              <a:chExt cx="2260800" cy="1942920"/>
            </a:xfrm>
          </p:grpSpPr>
          <p:sp>
            <p:nvSpPr>
              <p:cNvPr id="79" name=""/>
              <p:cNvSpPr/>
              <p:nvPr/>
            </p:nvSpPr>
            <p:spPr>
              <a:xfrm>
                <a:off x="6886440" y="4403880"/>
                <a:ext cx="484200" cy="210960"/>
              </a:xfrm>
              <a:custGeom>
                <a:avLst/>
                <a:gdLst/>
                <a:ahLst/>
                <a:rect l="l" t="t" r="r" b="b"/>
                <a:pathLst>
                  <a:path w="305" h="133">
                    <a:moveTo>
                      <a:pt x="0" y="0"/>
                    </a:moveTo>
                    <a:lnTo>
                      <a:pt x="15" y="31"/>
                    </a:lnTo>
                    <a:lnTo>
                      <a:pt x="27" y="49"/>
                    </a:lnTo>
                    <a:lnTo>
                      <a:pt x="39" y="63"/>
                    </a:lnTo>
                    <a:lnTo>
                      <a:pt x="67" y="92"/>
                    </a:lnTo>
                    <a:lnTo>
                      <a:pt x="88" y="103"/>
                    </a:lnTo>
                    <a:lnTo>
                      <a:pt x="107" y="115"/>
                    </a:lnTo>
                    <a:lnTo>
                      <a:pt x="127" y="121"/>
                    </a:lnTo>
                    <a:lnTo>
                      <a:pt x="148" y="123"/>
                    </a:lnTo>
                    <a:lnTo>
                      <a:pt x="196" y="127"/>
                    </a:lnTo>
                    <a:lnTo>
                      <a:pt x="252" y="129"/>
                    </a:lnTo>
                    <a:lnTo>
                      <a:pt x="304" y="132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755120" y="3597120"/>
                <a:ext cx="1392120" cy="9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00"/>
                    </a:solidFill>
                    <a:latin typeface="Comic Sans MS"/>
                  </a:rPr>
                  <a:t>database o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00"/>
                    </a:solidFill>
                    <a:latin typeface="Comic Sans MS"/>
                  </a:rPr>
                  <a:t>~200 logi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00"/>
                    </a:solidFill>
                    <a:latin typeface="Comic Sans MS"/>
                  </a:rPr>
                  <a:t>requiremen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00"/>
                    </a:solidFill>
                    <a:latin typeface="Comic Sans MS"/>
                  </a:rPr>
                  <a:t>from standar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556760" y="3970440"/>
                <a:ext cx="3009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709400" y="5021280"/>
                <a:ext cx="122760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Comic Sans MS"/>
                  </a:rPr>
                  <a:t>formalized i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Comic Sans MS"/>
                  </a:rPr>
                  <a:t>LT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flipV="1">
                <a:off x="7646760" y="4544640"/>
                <a:ext cx="277560" cy="47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" name=""/>
          <p:cNvGrpSpPr/>
          <p:nvPr/>
        </p:nvGrpSpPr>
        <p:grpSpPr>
          <a:xfrm>
            <a:off x="3727440" y="3232080"/>
            <a:ext cx="2556000" cy="2369880"/>
            <a:chOff x="3727440" y="3232080"/>
            <a:chExt cx="2556000" cy="2369880"/>
          </a:xfrm>
        </p:grpSpPr>
        <p:sp>
          <p:nvSpPr>
            <p:cNvPr id="85" name=""/>
            <p:cNvSpPr/>
            <p:nvPr/>
          </p:nvSpPr>
          <p:spPr>
            <a:xfrm>
              <a:off x="5275440" y="3232080"/>
              <a:ext cx="649080" cy="1801800"/>
            </a:xfrm>
            <a:custGeom>
              <a:avLst/>
              <a:gdLst/>
              <a:ahLst/>
              <a:rect l="l" t="t" r="r" b="b"/>
              <a:pathLst>
                <a:path w="409" h="1135">
                  <a:moveTo>
                    <a:pt x="250" y="1134"/>
                  </a:moveTo>
                  <a:lnTo>
                    <a:pt x="176" y="1057"/>
                  </a:lnTo>
                  <a:lnTo>
                    <a:pt x="104" y="955"/>
                  </a:lnTo>
                  <a:lnTo>
                    <a:pt x="61" y="871"/>
                  </a:lnTo>
                  <a:lnTo>
                    <a:pt x="27" y="773"/>
                  </a:lnTo>
                  <a:lnTo>
                    <a:pt x="11" y="695"/>
                  </a:lnTo>
                  <a:lnTo>
                    <a:pt x="0" y="613"/>
                  </a:lnTo>
                  <a:lnTo>
                    <a:pt x="0" y="515"/>
                  </a:lnTo>
                  <a:lnTo>
                    <a:pt x="12" y="415"/>
                  </a:lnTo>
                  <a:lnTo>
                    <a:pt x="37" y="315"/>
                  </a:lnTo>
                  <a:lnTo>
                    <a:pt x="76" y="215"/>
                  </a:lnTo>
                  <a:lnTo>
                    <a:pt x="140" y="108"/>
                  </a:lnTo>
                  <a:lnTo>
                    <a:pt x="210" y="25"/>
                  </a:lnTo>
                  <a:lnTo>
                    <a:pt x="231" y="0"/>
                  </a:lnTo>
                  <a:lnTo>
                    <a:pt x="405" y="168"/>
                  </a:lnTo>
                  <a:lnTo>
                    <a:pt x="359" y="213"/>
                  </a:lnTo>
                  <a:lnTo>
                    <a:pt x="303" y="290"/>
                  </a:lnTo>
                  <a:lnTo>
                    <a:pt x="271" y="364"/>
                  </a:lnTo>
                  <a:lnTo>
                    <a:pt x="255" y="440"/>
                  </a:lnTo>
                  <a:lnTo>
                    <a:pt x="233" y="520"/>
                  </a:lnTo>
                  <a:lnTo>
                    <a:pt x="235" y="610"/>
                  </a:lnTo>
                  <a:lnTo>
                    <a:pt x="244" y="685"/>
                  </a:lnTo>
                  <a:lnTo>
                    <a:pt x="270" y="775"/>
                  </a:lnTo>
                  <a:lnTo>
                    <a:pt x="311" y="860"/>
                  </a:lnTo>
                  <a:lnTo>
                    <a:pt x="368" y="931"/>
                  </a:lnTo>
                  <a:lnTo>
                    <a:pt x="408" y="976"/>
                  </a:lnTo>
                  <a:lnTo>
                    <a:pt x="250" y="1134"/>
                  </a:lnTo>
                </a:path>
              </a:pathLst>
            </a:custGeom>
            <a:solidFill>
              <a:srgbClr val="fff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810400" y="4370400"/>
              <a:ext cx="473040" cy="237960"/>
            </a:xfrm>
            <a:custGeom>
              <a:avLst/>
              <a:gdLst/>
              <a:ahLst/>
              <a:rect l="l" t="t" r="r" b="b"/>
              <a:pathLst>
                <a:path w="298" h="150">
                  <a:moveTo>
                    <a:pt x="297" y="0"/>
                  </a:moveTo>
                  <a:lnTo>
                    <a:pt x="283" y="36"/>
                  </a:lnTo>
                  <a:lnTo>
                    <a:pt x="262" y="72"/>
                  </a:lnTo>
                  <a:lnTo>
                    <a:pt x="232" y="104"/>
                  </a:lnTo>
                  <a:lnTo>
                    <a:pt x="214" y="117"/>
                  </a:lnTo>
                  <a:lnTo>
                    <a:pt x="194" y="130"/>
                  </a:lnTo>
                  <a:lnTo>
                    <a:pt x="173" y="136"/>
                  </a:lnTo>
                  <a:lnTo>
                    <a:pt x="150" y="139"/>
                  </a:lnTo>
                  <a:lnTo>
                    <a:pt x="102" y="143"/>
                  </a:lnTo>
                  <a:lnTo>
                    <a:pt x="53" y="146"/>
                  </a:lnTo>
                  <a:lnTo>
                    <a:pt x="0" y="149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47160" y="3827520"/>
              <a:ext cx="7624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Comic Sans MS"/>
                </a:rPr>
                <a:t>t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Comic Sans MS"/>
                </a:rPr>
                <a:t>driv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40600" y="3919680"/>
              <a:ext cx="300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27440" y="3862440"/>
              <a:ext cx="77940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613400" y="5083200"/>
              <a:ext cx="9378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omic Sans MS"/>
                </a:rPr>
                <a:t>written 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omic Sans MS"/>
                </a:rPr>
                <a:t>Promel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5199120" y="4581000"/>
              <a:ext cx="376200" cy="48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389560" y="2308320"/>
            <a:ext cx="1592280" cy="2155680"/>
            <a:chOff x="5389560" y="2308320"/>
            <a:chExt cx="1592280" cy="2155680"/>
          </a:xfrm>
        </p:grpSpPr>
        <p:sp>
          <p:nvSpPr>
            <p:cNvPr id="93" name=""/>
            <p:cNvSpPr/>
            <p:nvPr/>
          </p:nvSpPr>
          <p:spPr>
            <a:xfrm>
              <a:off x="6373800" y="2325600"/>
              <a:ext cx="0" cy="15321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10360" y="3786120"/>
              <a:ext cx="771480" cy="677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p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mod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89560" y="2308320"/>
              <a:ext cx="9820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00"/>
                  </a:solidFill>
                  <a:latin typeface="Comic Sans MS"/>
                </a:rPr>
                <a:t>mod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00"/>
                  </a:solidFill>
                  <a:latin typeface="Comic Sans MS"/>
                </a:rPr>
                <a:t>extra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759720" y="2271600"/>
            <a:ext cx="1098360" cy="1563840"/>
            <a:chOff x="6759720" y="2271600"/>
            <a:chExt cx="1098360" cy="1563840"/>
          </a:xfrm>
        </p:grpSpPr>
        <p:sp>
          <p:nvSpPr>
            <p:cNvPr id="97" name=""/>
            <p:cNvSpPr/>
            <p:nvPr/>
          </p:nvSpPr>
          <p:spPr>
            <a:xfrm>
              <a:off x="6924600" y="2284560"/>
              <a:ext cx="9334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00"/>
                  </a:solidFill>
                  <a:latin typeface="Comic Sans MS"/>
                </a:rPr>
                <a:t>bu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00"/>
                  </a:solidFill>
                  <a:latin typeface="Comic Sans MS"/>
                </a:rPr>
                <a:t>repor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59720" y="2271600"/>
              <a:ext cx="0" cy="15638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63D1A-5D3B-4DD3-AA97-3081C63863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5975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4405320" y="1134000"/>
            <a:ext cx="2313000" cy="4628520"/>
            <a:chOff x="4405320" y="1134000"/>
            <a:chExt cx="2313000" cy="462852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4444920" y="1739880"/>
              <a:ext cx="2273400" cy="4022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1" name=""/>
            <p:cNvSpPr/>
            <p:nvPr/>
          </p:nvSpPr>
          <p:spPr>
            <a:xfrm>
              <a:off x="4708440" y="1406520"/>
              <a:ext cx="0" cy="361800"/>
            </a:xfrm>
            <a:prstGeom prst="line">
              <a:avLst/>
            </a:prstGeom>
            <a:ln w="64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05320" y="1134000"/>
              <a:ext cx="60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empus Sans ITC"/>
                </a:rPr>
                <a:t>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6219360" y="3319560"/>
              <a:ext cx="3240" cy="336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88240" y="361692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empus Sans ITC"/>
                </a:rPr>
                <a:t>ex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308560" y="190440"/>
            <a:ext cx="3475080" cy="6192360"/>
            <a:chOff x="5308560" y="190440"/>
            <a:chExt cx="3475080" cy="6192360"/>
          </a:xfrm>
        </p:grpSpPr>
        <p:sp>
          <p:nvSpPr>
            <p:cNvPr id="106" name=""/>
            <p:cNvSpPr/>
            <p:nvPr/>
          </p:nvSpPr>
          <p:spPr>
            <a:xfrm>
              <a:off x="5308560" y="190440"/>
              <a:ext cx="2946600" cy="2546280"/>
            </a:xfrm>
            <a:custGeom>
              <a:avLst/>
              <a:gdLst/>
              <a:ahLst/>
              <a:rect l="l" t="t" r="r" b="b"/>
              <a:pathLst>
                <a:path w="2296" h="1604">
                  <a:moveTo>
                    <a:pt x="246" y="1604"/>
                  </a:moveTo>
                  <a:cubicBezTo>
                    <a:pt x="123" y="1468"/>
                    <a:pt x="0" y="1333"/>
                    <a:pt x="83" y="1149"/>
                  </a:cubicBezTo>
                  <a:cubicBezTo>
                    <a:pt x="166" y="965"/>
                    <a:pt x="499" y="667"/>
                    <a:pt x="742" y="498"/>
                  </a:cubicBezTo>
                  <a:cubicBezTo>
                    <a:pt x="985" y="329"/>
                    <a:pt x="1307" y="211"/>
                    <a:pt x="1539" y="132"/>
                  </a:cubicBezTo>
                  <a:cubicBezTo>
                    <a:pt x="1771" y="53"/>
                    <a:pt x="2007" y="0"/>
                    <a:pt x="2133" y="26"/>
                  </a:cubicBezTo>
                  <a:cubicBezTo>
                    <a:pt x="2259" y="52"/>
                    <a:pt x="2277" y="169"/>
                    <a:pt x="2296" y="287"/>
                  </a:cubicBezTo>
                </a:path>
              </a:pathLst>
            </a:custGeom>
            <a:noFill/>
            <a:ln w="1260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6535800" y="774720"/>
              <a:ext cx="2247840" cy="5229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8" name=""/>
            <p:cNvSpPr/>
            <p:nvPr/>
          </p:nvSpPr>
          <p:spPr>
            <a:xfrm flipH="1">
              <a:off x="8078400" y="5921280"/>
              <a:ext cx="3240" cy="336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13240" y="6075720"/>
              <a:ext cx="105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empus Sans ITC"/>
                </a:rPr>
                <a:t>endthre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92200" y="942840"/>
            <a:ext cx="3828960" cy="505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36480" y="-73440"/>
            <a:ext cx="77724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deling a program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15360" y="8593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beginth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19960" y="289080"/>
            <a:ext cx="200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Courier New"/>
              </a:rPr>
              <a:t>(Chapter 10 in the book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EC60B-5B6B-4C4D-AAEB-D04731717D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5975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174240"/>
            <a:ext cx="8619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straction/filte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8120" y="1521000"/>
            <a:ext cx="85932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bel set from the extracted automata re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larations, statements, and expressions from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label is classified (with a lookup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rrelevant to the property:  h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ally relevant:               ma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i.e., replace with user-defined str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lly relevant:                     ke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odified C parser (modex) uses the table to generate a Spin verifica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Pathstar application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% hide, 10% map, 60% ke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EE53B-C6FC-4636-83AC-A68A9A29DC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5975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1000" y="18216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ram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48440" y="4920120"/>
            <a:ext cx="4778640" cy="7038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empus Sans ITC"/>
              </a:rPr>
              <a:t>LT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&lt;&gt; (offhook  /\  X ( !dialtone U onhook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0960" y="1652400"/>
            <a:ext cx="428940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ample propert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the subscriber goes offhook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ltone is generated.’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failure to satisfy the proper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entuall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ubscriber goes offh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\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after, no dialtone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erated until the next onh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583240" y="2043000"/>
            <a:ext cx="2947680" cy="2546280"/>
            <a:chOff x="5583240" y="2043000"/>
            <a:chExt cx="2947680" cy="2546280"/>
          </a:xfrm>
        </p:grpSpPr>
        <p:sp>
          <p:nvSpPr>
            <p:cNvPr id="120" name=""/>
            <p:cNvSpPr/>
            <p:nvPr/>
          </p:nvSpPr>
          <p:spPr>
            <a:xfrm>
              <a:off x="6453000" y="2238120"/>
              <a:ext cx="396720" cy="397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53000" y="3184560"/>
              <a:ext cx="396720" cy="39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53000" y="4155840"/>
              <a:ext cx="396720" cy="3970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3400" y="3612960"/>
              <a:ext cx="396720" cy="397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42000" y="2635200"/>
              <a:ext cx="0" cy="538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59640" y="3611520"/>
              <a:ext cx="0" cy="538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31000" y="3468600"/>
              <a:ext cx="47412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6838560" y="3952800"/>
              <a:ext cx="520200" cy="31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50000" y="2043000"/>
              <a:ext cx="436320" cy="614520"/>
            </a:xfrm>
            <a:custGeom>
              <a:avLst/>
              <a:gdLst/>
              <a:ahLst/>
              <a:rect l="l" t="t" r="r" b="b"/>
              <a:pathLst>
                <a:path w="275" h="387">
                  <a:moveTo>
                    <a:pt x="45" y="311"/>
                  </a:moveTo>
                  <a:cubicBezTo>
                    <a:pt x="80" y="349"/>
                    <a:pt x="116" y="387"/>
                    <a:pt x="152" y="384"/>
                  </a:cubicBezTo>
                  <a:cubicBezTo>
                    <a:pt x="188" y="381"/>
                    <a:pt x="245" y="345"/>
                    <a:pt x="260" y="294"/>
                  </a:cubicBezTo>
                  <a:cubicBezTo>
                    <a:pt x="275" y="243"/>
                    <a:pt x="268" y="126"/>
                    <a:pt x="243" y="79"/>
                  </a:cubicBezTo>
                  <a:cubicBezTo>
                    <a:pt x="218" y="32"/>
                    <a:pt x="153" y="0"/>
                    <a:pt x="113" y="11"/>
                  </a:cubicBezTo>
                  <a:cubicBezTo>
                    <a:pt x="73" y="22"/>
                    <a:pt x="36" y="84"/>
                    <a:pt x="0" y="147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46760" y="3441600"/>
              <a:ext cx="436320" cy="614520"/>
            </a:xfrm>
            <a:custGeom>
              <a:avLst/>
              <a:gdLst/>
              <a:ahLst/>
              <a:rect l="l" t="t" r="r" b="b"/>
              <a:pathLst>
                <a:path w="275" h="387">
                  <a:moveTo>
                    <a:pt x="45" y="311"/>
                  </a:moveTo>
                  <a:cubicBezTo>
                    <a:pt x="80" y="349"/>
                    <a:pt x="116" y="387"/>
                    <a:pt x="152" y="384"/>
                  </a:cubicBezTo>
                  <a:cubicBezTo>
                    <a:pt x="188" y="381"/>
                    <a:pt x="245" y="345"/>
                    <a:pt x="260" y="294"/>
                  </a:cubicBezTo>
                  <a:cubicBezTo>
                    <a:pt x="275" y="243"/>
                    <a:pt x="268" y="126"/>
                    <a:pt x="243" y="79"/>
                  </a:cubicBezTo>
                  <a:cubicBezTo>
                    <a:pt x="218" y="32"/>
                    <a:pt x="153" y="0"/>
                    <a:pt x="113" y="11"/>
                  </a:cubicBezTo>
                  <a:cubicBezTo>
                    <a:pt x="73" y="22"/>
                    <a:pt x="36" y="84"/>
                    <a:pt x="0" y="147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6069960" y="3975120"/>
              <a:ext cx="435960" cy="614160"/>
            </a:xfrm>
            <a:custGeom>
              <a:avLst/>
              <a:gdLst/>
              <a:ahLst/>
              <a:rect l="l" t="t" r="r" b="b"/>
              <a:pathLst>
                <a:path w="275" h="387">
                  <a:moveTo>
                    <a:pt x="45" y="311"/>
                  </a:moveTo>
                  <a:cubicBezTo>
                    <a:pt x="80" y="349"/>
                    <a:pt x="116" y="387"/>
                    <a:pt x="152" y="384"/>
                  </a:cubicBezTo>
                  <a:cubicBezTo>
                    <a:pt x="188" y="381"/>
                    <a:pt x="245" y="345"/>
                    <a:pt x="260" y="294"/>
                  </a:cubicBezTo>
                  <a:cubicBezTo>
                    <a:pt x="275" y="243"/>
                    <a:pt x="268" y="126"/>
                    <a:pt x="243" y="79"/>
                  </a:cubicBezTo>
                  <a:cubicBezTo>
                    <a:pt x="218" y="32"/>
                    <a:pt x="153" y="0"/>
                    <a:pt x="113" y="11"/>
                  </a:cubicBezTo>
                  <a:cubicBezTo>
                    <a:pt x="73" y="22"/>
                    <a:pt x="36" y="84"/>
                    <a:pt x="0" y="147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676920" y="2843280"/>
              <a:ext cx="71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ourier New"/>
                </a:rPr>
                <a:t>offhoo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65560" y="3317760"/>
              <a:ext cx="86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ourier New"/>
                </a:rPr>
                <a:t>!dialto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34120" y="2214360"/>
              <a:ext cx="48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ourier New"/>
                </a:rPr>
                <a:t>tr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64400" y="3209760"/>
              <a:ext cx="86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ourier New"/>
                </a:rPr>
                <a:t>!dialto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35400" y="4160880"/>
              <a:ext cx="63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ourier New"/>
                </a:rPr>
                <a:t>onhoo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76800" y="3565440"/>
              <a:ext cx="63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ourier New"/>
                </a:rPr>
                <a:t>onhoo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83240" y="4205160"/>
              <a:ext cx="48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ourier New"/>
                </a:rPr>
                <a:t>tr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 flipV="1">
            <a:off x="5486400" y="4707000"/>
            <a:ext cx="1003320" cy="5824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6D7FA-42EB-41DC-8AA8-5A496ED33D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5975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95440" y="324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ing and reporting bu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55800" y="1090440"/>
            <a:ext cx="1697040" cy="44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C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4000" y="3166200"/>
            <a:ext cx="1692000" cy="563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mo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49400" y="1913040"/>
            <a:ext cx="1649520" cy="704160"/>
          </a:xfrm>
          <a:prstGeom prst="flowChartInputOutpu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loo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0520" y="1544760"/>
            <a:ext cx="0" cy="338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08200" y="2612880"/>
            <a:ext cx="0" cy="3384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486320" y="1300320"/>
            <a:ext cx="3027240" cy="2895480"/>
            <a:chOff x="4486320" y="1300320"/>
            <a:chExt cx="3027240" cy="2895480"/>
          </a:xfrm>
        </p:grpSpPr>
        <p:sp>
          <p:nvSpPr>
            <p:cNvPr id="146" name=""/>
            <p:cNvSpPr/>
            <p:nvPr/>
          </p:nvSpPr>
          <p:spPr>
            <a:xfrm>
              <a:off x="4486320" y="1300320"/>
              <a:ext cx="2324160" cy="2895480"/>
            </a:xfrm>
            <a:custGeom>
              <a:avLst/>
              <a:gdLst/>
              <a:ahLst/>
              <a:rect l="l" t="t" r="r" b="b"/>
              <a:pathLst>
                <a:path w="1616" h="1939">
                  <a:moveTo>
                    <a:pt x="0" y="7"/>
                  </a:moveTo>
                  <a:cubicBezTo>
                    <a:pt x="83" y="3"/>
                    <a:pt x="166" y="0"/>
                    <a:pt x="304" y="7"/>
                  </a:cubicBezTo>
                  <a:cubicBezTo>
                    <a:pt x="442" y="14"/>
                    <a:pt x="661" y="1"/>
                    <a:pt x="826" y="50"/>
                  </a:cubicBezTo>
                  <a:cubicBezTo>
                    <a:pt x="991" y="99"/>
                    <a:pt x="1171" y="136"/>
                    <a:pt x="1294" y="299"/>
                  </a:cubicBezTo>
                  <a:cubicBezTo>
                    <a:pt x="1417" y="462"/>
                    <a:pt x="1508" y="755"/>
                    <a:pt x="1562" y="1028"/>
                  </a:cubicBezTo>
                  <a:cubicBezTo>
                    <a:pt x="1616" y="1301"/>
                    <a:pt x="1606" y="1786"/>
                    <a:pt x="1616" y="1939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51360" y="1914840"/>
              <a:ext cx="1762200" cy="704160"/>
            </a:xfrm>
            <a:prstGeom prst="flowChartInputOutpu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empus Sans ITC"/>
                </a:rPr>
                <a:t>rever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empus Sans ITC"/>
                </a:rPr>
                <a:t>look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24480" y="1996920"/>
              <a:ext cx="1263600" cy="471600"/>
            </a:xfrm>
            <a:prstGeom prst="leftRightArrow">
              <a:avLst>
                <a:gd name="adj1" fmla="val 50000"/>
                <a:gd name="adj2" fmla="val 53340"/>
              </a:avLst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478320" y="3971880"/>
            <a:ext cx="5206680" cy="2312640"/>
            <a:chOff x="3478320" y="3971880"/>
            <a:chExt cx="5206680" cy="231264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5586480" y="4392720"/>
              <a:ext cx="2631960" cy="1517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1" name=""/>
            <p:cNvSpPr/>
            <p:nvPr/>
          </p:nvSpPr>
          <p:spPr>
            <a:xfrm>
              <a:off x="5441400" y="48632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empus Sans ITC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4210200" y="4172040"/>
              <a:ext cx="1152360" cy="2038320"/>
            </a:xfrm>
            <a:prstGeom prst="rect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pic>
        <p:sp>
          <p:nvSpPr>
            <p:cNvPr id="153" name=""/>
            <p:cNvSpPr/>
            <p:nvPr/>
          </p:nvSpPr>
          <p:spPr>
            <a:xfrm>
              <a:off x="3478320" y="3971880"/>
              <a:ext cx="639720" cy="1039680"/>
            </a:xfrm>
            <a:custGeom>
              <a:avLst/>
              <a:gdLst/>
              <a:ahLst/>
              <a:rect l="l" t="t" r="r" b="b"/>
              <a:pathLst>
                <a:path w="403" h="655">
                  <a:moveTo>
                    <a:pt x="14" y="0"/>
                  </a:moveTo>
                  <a:cubicBezTo>
                    <a:pt x="7" y="135"/>
                    <a:pt x="0" y="270"/>
                    <a:pt x="14" y="371"/>
                  </a:cubicBezTo>
                  <a:cubicBezTo>
                    <a:pt x="28" y="472"/>
                    <a:pt x="34" y="561"/>
                    <a:pt x="99" y="608"/>
                  </a:cubicBezTo>
                  <a:cubicBezTo>
                    <a:pt x="164" y="655"/>
                    <a:pt x="283" y="652"/>
                    <a:pt x="403" y="65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047080" y="5251320"/>
              <a:ext cx="74520" cy="36360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15120 h 363600"/>
                <a:gd name="textAreaBottom" fmla="*/ 348480 h 36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051760" y="527904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empus Sans ITC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66520" y="5977440"/>
              <a:ext cx="331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empus Sans ITC"/>
                </a:rPr>
                <a:t>error scenario: no dialtone genera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06520" y="967320"/>
            <a:ext cx="3005640" cy="4744440"/>
            <a:chOff x="506520" y="967320"/>
            <a:chExt cx="3005640" cy="4744440"/>
          </a:xfrm>
        </p:grpSpPr>
        <p:sp>
          <p:nvSpPr>
            <p:cNvPr id="158" name=""/>
            <p:cNvSpPr/>
            <p:nvPr/>
          </p:nvSpPr>
          <p:spPr>
            <a:xfrm>
              <a:off x="3197160" y="48567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empus Sans ITC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6520" y="967320"/>
              <a:ext cx="1935000" cy="711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empus Sans ITC"/>
                </a:rPr>
                <a:t>LTL requir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0280" y="3141000"/>
              <a:ext cx="1913040" cy="520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empus Sans ITC"/>
                </a:rPr>
                <a:t>spin -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6480" y="1935720"/>
              <a:ext cx="1877400" cy="642600"/>
            </a:xfrm>
            <a:prstGeom prst="flowChartInputOutpu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empus Sans ITC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empus Sans ITC"/>
                </a:rPr>
                <a:t>neg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71680" y="1566720"/>
              <a:ext cx="0" cy="3384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88960" y="2597040"/>
              <a:ext cx="0" cy="3384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52600" y="3894120"/>
              <a:ext cx="639720" cy="1039680"/>
            </a:xfrm>
            <a:custGeom>
              <a:avLst/>
              <a:gdLst/>
              <a:ahLst/>
              <a:rect l="l" t="t" r="r" b="b"/>
              <a:pathLst>
                <a:path w="403" h="655">
                  <a:moveTo>
                    <a:pt x="14" y="0"/>
                  </a:moveTo>
                  <a:cubicBezTo>
                    <a:pt x="7" y="135"/>
                    <a:pt x="0" y="270"/>
                    <a:pt x="14" y="371"/>
                  </a:cubicBezTo>
                  <a:cubicBezTo>
                    <a:pt x="28" y="472"/>
                    <a:pt x="34" y="561"/>
                    <a:pt x="99" y="608"/>
                  </a:cubicBezTo>
                  <a:cubicBezTo>
                    <a:pt x="164" y="655"/>
                    <a:pt x="283" y="652"/>
                    <a:pt x="403" y="65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039760" y="4508640"/>
              <a:ext cx="952200" cy="1203120"/>
              <a:chOff x="2039760" y="4508640"/>
              <a:chExt cx="952200" cy="1203120"/>
            </a:xfrm>
          </p:grpSpPr>
          <p:sp>
            <p:nvSpPr>
              <p:cNvPr id="166" name=""/>
              <p:cNvSpPr/>
              <p:nvPr/>
            </p:nvSpPr>
            <p:spPr>
              <a:xfrm>
                <a:off x="2220840" y="4600800"/>
                <a:ext cx="187560" cy="187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220840" y="5047920"/>
                <a:ext cx="187560" cy="187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220840" y="5506920"/>
                <a:ext cx="18756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628000" y="5250240"/>
                <a:ext cx="187560" cy="187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310120" y="4788360"/>
                <a:ext cx="0" cy="254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318400" y="5249880"/>
                <a:ext cx="0" cy="254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399400" y="5182200"/>
                <a:ext cx="224640" cy="118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2403360" y="5411160"/>
                <a:ext cx="246240" cy="147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361240" y="4508640"/>
                <a:ext cx="206640" cy="290160"/>
              </a:xfrm>
              <a:custGeom>
                <a:avLst/>
                <a:gdLst/>
                <a:ahLst/>
                <a:rect l="l" t="t" r="r" b="b"/>
                <a:pathLst>
                  <a:path w="275" h="387">
                    <a:moveTo>
                      <a:pt x="45" y="311"/>
                    </a:moveTo>
                    <a:cubicBezTo>
                      <a:pt x="80" y="349"/>
                      <a:pt x="116" y="387"/>
                      <a:pt x="152" y="384"/>
                    </a:cubicBezTo>
                    <a:cubicBezTo>
                      <a:pt x="188" y="381"/>
                      <a:pt x="245" y="345"/>
                      <a:pt x="260" y="294"/>
                    </a:cubicBezTo>
                    <a:cubicBezTo>
                      <a:pt x="275" y="243"/>
                      <a:pt x="268" y="126"/>
                      <a:pt x="243" y="79"/>
                    </a:cubicBezTo>
                    <a:cubicBezTo>
                      <a:pt x="218" y="32"/>
                      <a:pt x="153" y="0"/>
                      <a:pt x="113" y="11"/>
                    </a:cubicBezTo>
                    <a:cubicBezTo>
                      <a:pt x="73" y="22"/>
                      <a:pt x="36" y="84"/>
                      <a:pt x="0" y="147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785680" y="5169240"/>
                <a:ext cx="206280" cy="290160"/>
              </a:xfrm>
              <a:custGeom>
                <a:avLst/>
                <a:gdLst/>
                <a:ahLst/>
                <a:rect l="l" t="t" r="r" b="b"/>
                <a:pathLst>
                  <a:path w="275" h="387">
                    <a:moveTo>
                      <a:pt x="45" y="311"/>
                    </a:moveTo>
                    <a:cubicBezTo>
                      <a:pt x="80" y="349"/>
                      <a:pt x="116" y="387"/>
                      <a:pt x="152" y="384"/>
                    </a:cubicBezTo>
                    <a:cubicBezTo>
                      <a:pt x="188" y="381"/>
                      <a:pt x="245" y="345"/>
                      <a:pt x="260" y="294"/>
                    </a:cubicBezTo>
                    <a:cubicBezTo>
                      <a:pt x="275" y="243"/>
                      <a:pt x="268" y="126"/>
                      <a:pt x="243" y="79"/>
                    </a:cubicBezTo>
                    <a:cubicBezTo>
                      <a:pt x="218" y="32"/>
                      <a:pt x="153" y="0"/>
                      <a:pt x="113" y="11"/>
                    </a:cubicBezTo>
                    <a:cubicBezTo>
                      <a:pt x="73" y="22"/>
                      <a:pt x="36" y="84"/>
                      <a:pt x="0" y="147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2039760" y="5421600"/>
                <a:ext cx="206640" cy="290160"/>
              </a:xfrm>
              <a:custGeom>
                <a:avLst/>
                <a:gdLst/>
                <a:ahLst/>
                <a:rect l="l" t="t" r="r" b="b"/>
                <a:pathLst>
                  <a:path w="275" h="387">
                    <a:moveTo>
                      <a:pt x="45" y="311"/>
                    </a:moveTo>
                    <a:cubicBezTo>
                      <a:pt x="80" y="349"/>
                      <a:pt x="116" y="387"/>
                      <a:pt x="152" y="384"/>
                    </a:cubicBezTo>
                    <a:cubicBezTo>
                      <a:pt x="188" y="381"/>
                      <a:pt x="245" y="345"/>
                      <a:pt x="260" y="294"/>
                    </a:cubicBezTo>
                    <a:cubicBezTo>
                      <a:pt x="275" y="243"/>
                      <a:pt x="268" y="126"/>
                      <a:pt x="243" y="79"/>
                    </a:cubicBezTo>
                    <a:cubicBezTo>
                      <a:pt x="218" y="32"/>
                      <a:pt x="153" y="0"/>
                      <a:pt x="113" y="11"/>
                    </a:cubicBezTo>
                    <a:cubicBezTo>
                      <a:pt x="73" y="22"/>
                      <a:pt x="36" y="84"/>
                      <a:pt x="0" y="147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3681D-73AA-4D2F-8A27-1DC4308968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5975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7680" y="53640"/>
            <a:ext cx="584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tomating the verificatio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32000" y="1171440"/>
            <a:ext cx="6572160" cy="3524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9" name=""/>
          <p:cNvSpPr/>
          <p:nvPr/>
        </p:nvSpPr>
        <p:spPr>
          <a:xfrm>
            <a:off x="6451560" y="1860480"/>
            <a:ext cx="17557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372360" y="3220920"/>
            <a:ext cx="1809720" cy="3048120"/>
            <a:chOff x="6372360" y="3220920"/>
            <a:chExt cx="1809720" cy="3048120"/>
          </a:xfrm>
        </p:grpSpPr>
        <p:sp>
          <p:nvSpPr>
            <p:cNvPr id="181" name=""/>
            <p:cNvSpPr/>
            <p:nvPr/>
          </p:nvSpPr>
          <p:spPr>
            <a:xfrm>
              <a:off x="6372360" y="4273560"/>
              <a:ext cx="554040" cy="0"/>
            </a:xfrm>
            <a:prstGeom prst="line">
              <a:avLst/>
            </a:prstGeom>
            <a:ln w="76320">
              <a:solidFill>
                <a:srgbClr val="ff01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6988320" y="3220920"/>
              <a:ext cx="1193760" cy="3048120"/>
              <a:chOff x="6988320" y="3220920"/>
              <a:chExt cx="1193760" cy="3048120"/>
            </a:xfrm>
          </p:grpSpPr>
          <p:pic>
            <p:nvPicPr>
              <p:cNvPr id="18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988320" y="3224160"/>
                <a:ext cx="1193760" cy="304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"/>
              <p:cNvSpPr/>
              <p:nvPr/>
            </p:nvSpPr>
            <p:spPr>
              <a:xfrm>
                <a:off x="6988320" y="3220920"/>
                <a:ext cx="1190520" cy="3048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150840" y="3086280"/>
            <a:ext cx="2854440" cy="3398760"/>
            <a:chOff x="150840" y="3086280"/>
            <a:chExt cx="2854440" cy="3398760"/>
          </a:xfrm>
        </p:grpSpPr>
        <p:sp>
          <p:nvSpPr>
            <p:cNvPr id="186" name=""/>
            <p:cNvSpPr/>
            <p:nvPr/>
          </p:nvSpPr>
          <p:spPr>
            <a:xfrm>
              <a:off x="1731960" y="3086280"/>
              <a:ext cx="0" cy="645840"/>
            </a:xfrm>
            <a:prstGeom prst="line">
              <a:avLst/>
            </a:prstGeom>
            <a:ln w="76320">
              <a:solidFill>
                <a:srgbClr val="ff01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3"/>
            <a:stretch/>
          </p:blipFill>
          <p:spPr>
            <a:xfrm>
              <a:off x="150840" y="3792600"/>
              <a:ext cx="2854440" cy="2692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88" name=""/>
          <p:cNvGrpSpPr/>
          <p:nvPr/>
        </p:nvGrpSpPr>
        <p:grpSpPr>
          <a:xfrm>
            <a:off x="3965400" y="4381560"/>
            <a:ext cx="1616400" cy="2308320"/>
            <a:chOff x="3965400" y="4381560"/>
            <a:chExt cx="1616400" cy="2308320"/>
          </a:xfrm>
        </p:grpSpPr>
        <p:pic>
          <p:nvPicPr>
            <p:cNvPr id="189" name="" descr=""/>
            <p:cNvPicPr/>
            <p:nvPr/>
          </p:nvPicPr>
          <p:blipFill>
            <a:blip r:embed="rId4"/>
            <a:stretch/>
          </p:blipFill>
          <p:spPr>
            <a:xfrm>
              <a:off x="3965400" y="5076720"/>
              <a:ext cx="1616400" cy="1613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0" name=""/>
            <p:cNvSpPr/>
            <p:nvPr/>
          </p:nvSpPr>
          <p:spPr>
            <a:xfrm>
              <a:off x="4781520" y="4381560"/>
              <a:ext cx="0" cy="646200"/>
            </a:xfrm>
            <a:prstGeom prst="line">
              <a:avLst/>
            </a:prstGeom>
            <a:ln w="7632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4110840" y="2675160"/>
            <a:ext cx="117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empus Sans ITC"/>
              </a:rPr>
              <a:t>client/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empus Sans ITC"/>
              </a:rPr>
              <a:t>sockets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66520" y="1911960"/>
            <a:ext cx="10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empus Sans ITC"/>
              </a:rPr>
              <a:t>ltl formul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18920" y="3474360"/>
            <a:ext cx="6195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empus Sans ITC"/>
              </a:rPr>
              <a:t>scri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153040" y="644400"/>
            <a:ext cx="1558800" cy="1384560"/>
            <a:chOff x="5153040" y="644400"/>
            <a:chExt cx="1558800" cy="1384560"/>
          </a:xfrm>
        </p:grpSpPr>
        <p:sp>
          <p:nvSpPr>
            <p:cNvPr id="195" name=""/>
            <p:cNvSpPr/>
            <p:nvPr/>
          </p:nvSpPr>
          <p:spPr>
            <a:xfrm flipH="1">
              <a:off x="5568840" y="1461960"/>
              <a:ext cx="346320" cy="567000"/>
            </a:xfrm>
            <a:prstGeom prst="line">
              <a:avLst/>
            </a:prstGeom>
            <a:ln w="76320">
              <a:solidFill>
                <a:srgbClr val="ff0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5"/>
            <a:stretch/>
          </p:blipFill>
          <p:spPr>
            <a:xfrm>
              <a:off x="5153040" y="644400"/>
              <a:ext cx="507960" cy="898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197" name=""/>
            <p:cNvGrpSpPr/>
            <p:nvPr/>
          </p:nvGrpSpPr>
          <p:grpSpPr>
            <a:xfrm>
              <a:off x="6051600" y="727200"/>
              <a:ext cx="660240" cy="831600"/>
              <a:chOff x="6051600" y="727200"/>
              <a:chExt cx="660240" cy="831600"/>
            </a:xfrm>
          </p:grpSpPr>
          <p:sp>
            <p:nvSpPr>
              <p:cNvPr id="198" name=""/>
              <p:cNvSpPr/>
              <p:nvPr/>
            </p:nvSpPr>
            <p:spPr>
              <a:xfrm>
                <a:off x="6051600" y="727200"/>
                <a:ext cx="660240" cy="8316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6071400" y="750600"/>
                <a:ext cx="616680" cy="779760"/>
                <a:chOff x="6071400" y="750600"/>
                <a:chExt cx="616680" cy="77976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6188760" y="810360"/>
                  <a:ext cx="121320" cy="121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6188760" y="1100160"/>
                  <a:ext cx="121320" cy="121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188760" y="1397880"/>
                  <a:ext cx="121320" cy="1216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452280" y="1231560"/>
                  <a:ext cx="121320" cy="121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246720" y="932040"/>
                  <a:ext cx="0" cy="164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252120" y="1231200"/>
                  <a:ext cx="0" cy="164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304320" y="1187280"/>
                  <a:ext cx="145440" cy="7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>
                  <a:off x="6306480" y="1335600"/>
                  <a:ext cx="159480" cy="9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6279840" y="750600"/>
                  <a:ext cx="133560" cy="188280"/>
                </a:xfrm>
                <a:custGeom>
                  <a:avLst/>
                  <a:gdLst/>
                  <a:ahLst/>
                  <a:rect l="l" t="t" r="r" b="b"/>
                  <a:pathLst>
                    <a:path w="275" h="387">
                      <a:moveTo>
                        <a:pt x="45" y="311"/>
                      </a:moveTo>
                      <a:cubicBezTo>
                        <a:pt x="80" y="349"/>
                        <a:pt x="116" y="387"/>
                        <a:pt x="152" y="384"/>
                      </a:cubicBezTo>
                      <a:cubicBezTo>
                        <a:pt x="188" y="381"/>
                        <a:pt x="245" y="345"/>
                        <a:pt x="260" y="294"/>
                      </a:cubicBezTo>
                      <a:cubicBezTo>
                        <a:pt x="275" y="243"/>
                        <a:pt x="268" y="126"/>
                        <a:pt x="243" y="79"/>
                      </a:cubicBezTo>
                      <a:cubicBezTo>
                        <a:pt x="218" y="32"/>
                        <a:pt x="153" y="0"/>
                        <a:pt x="113" y="11"/>
                      </a:cubicBezTo>
                      <a:cubicBezTo>
                        <a:pt x="73" y="22"/>
                        <a:pt x="36" y="84"/>
                        <a:pt x="0" y="147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554520" y="1179000"/>
                  <a:ext cx="133560" cy="188280"/>
                </a:xfrm>
                <a:custGeom>
                  <a:avLst/>
                  <a:gdLst/>
                  <a:ahLst/>
                  <a:rect l="l" t="t" r="r" b="b"/>
                  <a:pathLst>
                    <a:path w="275" h="387">
                      <a:moveTo>
                        <a:pt x="45" y="311"/>
                      </a:moveTo>
                      <a:cubicBezTo>
                        <a:pt x="80" y="349"/>
                        <a:pt x="116" y="387"/>
                        <a:pt x="152" y="384"/>
                      </a:cubicBezTo>
                      <a:cubicBezTo>
                        <a:pt x="188" y="381"/>
                        <a:pt x="245" y="345"/>
                        <a:pt x="260" y="294"/>
                      </a:cubicBezTo>
                      <a:cubicBezTo>
                        <a:pt x="275" y="243"/>
                        <a:pt x="268" y="126"/>
                        <a:pt x="243" y="79"/>
                      </a:cubicBezTo>
                      <a:cubicBezTo>
                        <a:pt x="218" y="32"/>
                        <a:pt x="153" y="0"/>
                        <a:pt x="113" y="11"/>
                      </a:cubicBezTo>
                      <a:cubicBezTo>
                        <a:pt x="73" y="22"/>
                        <a:pt x="36" y="84"/>
                        <a:pt x="0" y="147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>
                  <a:off x="6071040" y="1342440"/>
                  <a:ext cx="133560" cy="187920"/>
                </a:xfrm>
                <a:custGeom>
                  <a:avLst/>
                  <a:gdLst/>
                  <a:ahLst/>
                  <a:rect l="l" t="t" r="r" b="b"/>
                  <a:pathLst>
                    <a:path w="275" h="387">
                      <a:moveTo>
                        <a:pt x="45" y="311"/>
                      </a:moveTo>
                      <a:cubicBezTo>
                        <a:pt x="80" y="349"/>
                        <a:pt x="116" y="387"/>
                        <a:pt x="152" y="384"/>
                      </a:cubicBezTo>
                      <a:cubicBezTo>
                        <a:pt x="188" y="381"/>
                        <a:pt x="245" y="345"/>
                        <a:pt x="260" y="294"/>
                      </a:cubicBezTo>
                      <a:cubicBezTo>
                        <a:pt x="275" y="243"/>
                        <a:pt x="268" y="126"/>
                        <a:pt x="243" y="79"/>
                      </a:cubicBezTo>
                      <a:cubicBezTo>
                        <a:pt x="218" y="32"/>
                        <a:pt x="153" y="0"/>
                        <a:pt x="113" y="11"/>
                      </a:cubicBezTo>
                      <a:cubicBezTo>
                        <a:pt x="73" y="22"/>
                        <a:pt x="36" y="84"/>
                        <a:pt x="0" y="147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1" name=""/>
          <p:cNvSpPr/>
          <p:nvPr/>
        </p:nvSpPr>
        <p:spPr>
          <a:xfrm flipH="1">
            <a:off x="3086280" y="5638680"/>
            <a:ext cx="761760" cy="0"/>
          </a:xfrm>
          <a:prstGeom prst="line">
            <a:avLst/>
          </a:prstGeom>
          <a:ln w="5724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441E7-A1D1-4283-BA27-98F825BF15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4T02:57:30Z</dcterms:created>
  <dc:creator>Gerard J. Holzmann</dc:creator>
  <dc:description/>
  <dc:language>en-US</dc:language>
  <cp:lastModifiedBy>g</cp:lastModifiedBy>
  <dcterms:modified xsi:type="dcterms:W3CDTF">2006-03-07T17:14:06Z</dcterms:modified>
  <cp:revision>1674</cp:revision>
  <dc:subject/>
  <dc:title>The Spin Model Checker: Primer and Reference Manual</dc:title>
</cp:coreProperties>
</file>